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7F3-C9DF-460D-AE6B-E5CD0F6F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BC0-B732-4488-8C38-13EB6A4E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757-B741-426B-92F5-D007D592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17D-3271-4238-9291-280203D0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731-2595-49BF-B39A-F5CB3343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1CB-BF80-4006-AE1C-4E2736A4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E22-B769-4D12-B31D-B534C8E9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1D1-1FAF-480F-8445-FECB4EA6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FFB-24F2-4AAB-A92F-7DFC16FD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9EEB-3A16-4A6D-8EA9-805CBFEE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7C3F-3558-48CE-B9CE-C8775E6E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2BE-B7FF-410B-B15B-80E5EE9A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6785-00BB-4DCA-97C3-6449052FF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0:45:34Z</dcterms:created>
  <dc:creator>ERIK</dc:creator>
  <dc:description/>
  <dc:language>en-US</dc:language>
  <cp:lastModifiedBy>ERIK</cp:lastModifiedBy>
  <dcterms:modified xsi:type="dcterms:W3CDTF">2011-07-10T10:49:20Z</dcterms:modified>
  <cp:revision>1</cp:revision>
  <dc:subject/>
  <dc:title>Geen diatitel</dc:title>
</cp:coreProperties>
</file>