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064-455D-4FFD-B45F-67D3C61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293-EB5B-43BC-A2AC-B4E1F220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7DC-7AE8-42DD-B874-32BFDC31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064-0A63-4687-A455-A256BD83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32A-14FD-49DC-9386-51D0081D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A61-85E6-4B7C-B3A9-4CD4512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60C-325C-4434-A07D-495F258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A51-4385-4997-8ECC-8D3E406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2F3-A813-499B-9DA5-14C644E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602-6520-444C-A107-BA91EBA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A1F-0D48-4EE1-BDAE-EE7E019E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05D-1DDC-4122-B87D-1225B6ED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4468-263B-47C0-AE57-0A36E463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45:34Z</dcterms:created>
  <dc:creator>ERIK</dc:creator>
  <dc:description/>
  <dc:language>en-US</dc:language>
  <cp:lastModifiedBy>ERIK</cp:lastModifiedBy>
  <dcterms:modified xsi:type="dcterms:W3CDTF">2011-07-10T10:49:20Z</dcterms:modified>
  <cp:revision>1</cp:revision>
  <dc:subject/>
  <dc:title>Geen diatitel</dc:title>
</cp:coreProperties>
</file>