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2D-5240-49C9-AD31-9017294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6C2-1841-4B41-BA16-311A211E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10E-4BF6-47E6-949B-3DD81BD4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6DA-20B7-40AA-ADDC-523C6DE0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21C-6AD1-42F6-901F-5A64F8E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E4C-91C0-4897-AB3D-28F4893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23C-DD24-475C-9416-604829B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22C-8741-477A-BD11-F278106E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224-4E1C-4659-9914-4E2D90A1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F10-8CEB-45A2-8A95-F191399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BBB-A51C-48E9-BF79-09F8D05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59E-1C45-4EE7-9859-B1C25A5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560-5AC0-40EA-AE77-AFF61DC1C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0:40:51Z</dcterms:created>
  <dc:creator>ERIK</dc:creator>
  <dc:description/>
  <dc:language>en-US</dc:language>
  <cp:lastModifiedBy>ERIK</cp:lastModifiedBy>
  <dcterms:modified xsi:type="dcterms:W3CDTF">2011-07-10T10:45:24Z</dcterms:modified>
  <cp:revision>1</cp:revision>
  <dc:subject/>
  <dc:title>Geen diatitel</dc:title>
</cp:coreProperties>
</file>