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47D-5288-4305-B68E-60D3FC80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2C2-19AA-4B34-9FC3-074E87B5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185-ACC1-471E-97EC-0612AF93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CCF-8FFC-42F2-B61D-E117F92A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B7E-8D7A-45D6-81E3-62879126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4AD-31AB-4B24-850C-9F0BEF8E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441-F087-45BA-A1ED-DF0A25A5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CA3-3D7F-445B-A454-E29F75C1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963-5820-4602-8540-9F1C5CBF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02E-B621-4301-933B-C7359D92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A62-23AD-4B7F-A773-1109BD1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48D-2DAA-42D0-BF66-25D7DB39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9DDA-77C1-494B-8CEB-F03CC3296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40:51Z</dcterms:created>
  <dc:creator>ERIK</dc:creator>
  <dc:description/>
  <dc:language>en-US</dc:language>
  <cp:lastModifiedBy>ERIK</cp:lastModifiedBy>
  <dcterms:modified xsi:type="dcterms:W3CDTF">2011-07-10T10:45:24Z</dcterms:modified>
  <cp:revision>1</cp:revision>
  <dc:subject/>
  <dc:title>Geen diatitel</dc:title>
</cp:coreProperties>
</file>