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693-F1DF-4F0E-8F9E-22E23E9F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7C1-6F89-4920-A9B6-A90F6908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005-395B-4D8B-B253-0E61B0BD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3B0-FBC0-412F-A5C2-0267CB1C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C4B-B15B-4AB8-A7CF-AC570B09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F2C-8A16-414B-97EF-5C3FAEAB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04B-6910-4651-84FB-0ED52245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F37-2045-4ADE-9037-6F0EF3D8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53B-47F5-4CA4-9D3A-12A9D6BF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48A-F42C-4D80-92DB-01FC3BC7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1AB-F21B-4B32-9005-72A1604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F6E-F961-4665-AD18-0D4B02E9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8A20-074F-41B1-81EE-6F94F4233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6881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36:31Z</dcterms:created>
  <dc:creator>ERIK</dc:creator>
  <dc:description/>
  <dc:language>en-US</dc:language>
  <cp:lastModifiedBy>ERIK</cp:lastModifiedBy>
  <dcterms:modified xsi:type="dcterms:W3CDTF">2011-07-10T10:40:45Z</dcterms:modified>
  <cp:revision>1</cp:revision>
  <dc:subject/>
  <dc:title>Geen diatitel</dc:title>
</cp:coreProperties>
</file>