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37FF-5A49-4A9C-8E39-2E15647AE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3D43-06D1-40F4-B483-7A81C129C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7C52-1D25-43AF-B30F-89983A966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A04A-D1D6-4401-8192-38CDE08D7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4D80-EF65-4DF2-8A41-181B14A8F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EB9B-0956-4CEA-B897-DBDC9E879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A450-30AE-469E-A66B-0ACBCF17C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1EAA-529E-4185-BAB8-CA50CD006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5C23-6FA8-4C7C-88DA-D603E2592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B839-A335-481D-801A-A72B1DDA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8921-7838-48A5-81F9-BC34967A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FCA0-B7A5-49D8-9B7D-D840D4BA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29CF0-2687-45A6-8AA7-BC102DF4EC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23760" y="0"/>
            <a:ext cx="688176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0T10:36:31Z</dcterms:created>
  <dc:creator>ERIK</dc:creator>
  <dc:description/>
  <dc:language>en-US</dc:language>
  <cp:lastModifiedBy>ERIK</cp:lastModifiedBy>
  <dcterms:modified xsi:type="dcterms:W3CDTF">2011-07-10T10:40:45Z</dcterms:modified>
  <cp:revision>1</cp:revision>
  <dc:subject/>
  <dc:title>Geen diatitel</dc:title>
</cp:coreProperties>
</file>