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4B7A-6512-4E2B-AF6B-680D13E6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264E-EF95-43B0-B877-E2E261A1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B6C-36E8-4D53-BBB4-9D017931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6486-3D85-47C8-AB18-AB81FA6B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CB31-EE66-455A-9194-653138EE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A1B7-2E0F-4A90-8879-32DBFA3C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314-05CC-428C-982F-E1B3D8F0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8E73-ED54-4981-A28A-9029A313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7EC4-56DE-46A7-A179-1A60786F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73B-7BE4-4171-BCA2-81643680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244E-4746-4E97-A586-DC2F64AC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DDC-D994-4CFE-B378-B889A0F2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3A2E-E94E-437F-B8C8-B2151DB67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5560" y="0"/>
            <a:ext cx="68835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0:32:23Z</dcterms:created>
  <dc:creator>ERIK</dc:creator>
  <dc:description/>
  <dc:language>en-US</dc:language>
  <cp:lastModifiedBy>ERIK</cp:lastModifiedBy>
  <dcterms:modified xsi:type="dcterms:W3CDTF">2011-07-10T10:36:16Z</dcterms:modified>
  <cp:revision>1</cp:revision>
  <dc:subject/>
  <dc:title>Geen diatitel</dc:title>
</cp:coreProperties>
</file>