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5BE-46B8-4128-B3C3-C686B499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0CC-F50D-4816-80FB-CC25402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B07-8533-43EC-87A4-C5061922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24C-2059-4BBD-88FC-1DE73862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396-E14E-406E-954F-B1349052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FF6-5681-475C-A404-6D007AD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6AA-514C-4884-8110-6D2B1C87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E62-2812-4F04-B38E-DDAFC76B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E87-074B-4091-B82F-9846FB90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64F-8612-4B90-A8D2-8D31E26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5CA-3951-46B8-A96A-9B96715D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19B-269A-4C91-816F-0BCA2077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15D-2320-4E0E-A173-6B2685FC3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32:23Z</dcterms:created>
  <dc:creator>ERIK</dc:creator>
  <dc:description/>
  <dc:language>en-US</dc:language>
  <cp:lastModifiedBy>ERIK</cp:lastModifiedBy>
  <dcterms:modified xsi:type="dcterms:W3CDTF">2011-07-10T10:36:16Z</dcterms:modified>
  <cp:revision>1</cp:revision>
  <dc:subject/>
  <dc:title>Geen diatitel</dc:title>
</cp:coreProperties>
</file>