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DF5-8044-4281-B783-C7202279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C65-75F0-4EEE-9C80-DCA46FDF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23D-6FE5-45E3-910E-ECC3DC91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951-C3B4-4B55-972D-D8254FDE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B52-CC66-4E65-B351-B5C32D83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E63-BC31-4AC8-A6C9-2A579D33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E305-B3DC-4302-87CE-08E4EFA1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559-D23A-4C46-8763-F9123E85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8F4-86FA-46DD-917C-4C37D17C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D7AB-7302-4682-B235-0E6B8E50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2E7F-186D-435A-BAD8-87F216D6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DFA-7E88-4D02-BB3F-C0AE63B0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5A62-3714-411C-88BD-B0F513266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0:26:56Z</dcterms:created>
  <dc:creator>ERIK</dc:creator>
  <dc:description/>
  <dc:language>en-US</dc:language>
  <cp:lastModifiedBy>ERIK</cp:lastModifiedBy>
  <dcterms:modified xsi:type="dcterms:W3CDTF">2011-07-10T10:32:04Z</dcterms:modified>
  <cp:revision>1</cp:revision>
  <dc:subject/>
  <dc:title>Geen diatitel</dc:title>
</cp:coreProperties>
</file>