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6EE-3091-4EE9-BB88-FC6352EC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C43-56C2-46EC-9D41-8C92FF94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84F-31E9-4FE0-9C2F-24C47A71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1B5-6F37-401C-B4BA-6B62DA60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767-592F-41DE-8118-C925D1D8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699-CE8A-43BC-8697-EDCDD78A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4BD-7ABC-4A26-8DAA-849FD77A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FF6-0BBA-4846-8BC9-1A87368D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4FC-6EF1-486B-8688-28313667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716-C0AC-4B42-8FD3-C40ABC83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D71-C4A3-4C06-91E9-1ADE00A9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0D0-C10A-45E6-8BCF-5CA093E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4C98-C94B-47B5-9BA8-C1AF68A2A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0:26:56Z</dcterms:created>
  <dc:creator>ERIK</dc:creator>
  <dc:description/>
  <dc:language>en-US</dc:language>
  <cp:lastModifiedBy>ERIK</cp:lastModifiedBy>
  <dcterms:modified xsi:type="dcterms:W3CDTF">2011-07-10T10:32:04Z</dcterms:modified>
  <cp:revision>1</cp:revision>
  <dc:subject/>
  <dc:title>Geen diatitel</dc:title>
</cp:coreProperties>
</file>