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2E8-AC70-4552-9B71-80CADBE0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9D4-42FA-491F-96FD-A92102DB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D5E-6887-48AA-A60C-14565D19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B42-5410-478F-8C70-7D831F51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E1F-CD41-437F-A8C8-D7F9A526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583-10A7-4C7E-BB54-3E0E6331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6A5-4970-40AA-8816-710742F5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612-45B5-4386-AFB9-244B1549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4B7-76F7-487C-A06F-9D902C51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E3B-D094-447E-A27F-68747BF7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01A-997A-443C-ADE8-D1280EC6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CBB-436A-49D8-8810-8FE5FDC5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282A-39D0-4F68-BD22-A374A5239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0:24:58Z</dcterms:created>
  <dc:creator>ERIK</dc:creator>
  <dc:description/>
  <dc:language>en-US</dc:language>
  <cp:lastModifiedBy>ERIK</cp:lastModifiedBy>
  <dcterms:modified xsi:type="dcterms:W3CDTF">2011-07-10T10:26:41Z</dcterms:modified>
  <cp:revision>1</cp:revision>
  <dc:subject/>
  <dc:title>Geen diatitel</dc:title>
</cp:coreProperties>
</file>