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7A1-F878-4763-948C-879F42B4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462-6936-4A4A-B87A-6FC3AF03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131-E124-4E50-84ED-4AE037F3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8DC-6490-4F07-8DEC-0DB027A9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698-5E2A-4E29-9A17-BE983E80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B99-A3DA-4AA2-AA6F-182D7A30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1E7-76EB-43E2-8CA0-D78A371E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B66-E158-4155-84E4-7B623772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87A-8A86-4E31-AC05-68AE038D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C83-91D7-49BB-8A1D-43F8A97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B1B-B807-47D0-B9D5-F4F169F1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17F-6862-4777-94B7-5939936F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067B-0BD4-443A-A5FD-6D6169AD5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24:58Z</dcterms:created>
  <dc:creator>ERIK</dc:creator>
  <dc:description/>
  <dc:language>en-US</dc:language>
  <cp:lastModifiedBy>ERIK</cp:lastModifiedBy>
  <dcterms:modified xsi:type="dcterms:W3CDTF">2011-07-10T10:26:41Z</dcterms:modified>
  <cp:revision>1</cp:revision>
  <dc:subject/>
  <dc:title>Geen diatitel</dc:title>
</cp:coreProperties>
</file>