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586-96B5-4A0D-AF6D-063CBB3D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9E1-D416-476C-9EF3-65D6CAB2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5B3-01B6-4399-ACD0-D40D4603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BEA-8DA4-4604-9001-55103827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A1A-6A01-4AFD-983D-61C91334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9C7-1600-4F1F-BF56-D13E9395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7F8-144B-4905-B6B2-1121298E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63B-8480-4B12-92AF-4F8B471E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E72-CE82-4899-93FA-9148970D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BAC-5CFC-4220-8B90-E93DDD69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33E-AEC1-4BE3-8E60-F0A13C40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FA8-082C-44CC-AD1E-BF3DED2C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03A7-34B9-4A70-9164-FA715E588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0:25:38Z</dcterms:created>
  <dc:creator>ERIK</dc:creator>
  <dc:description/>
  <dc:language>en-US</dc:language>
  <cp:lastModifiedBy>ERIK</cp:lastModifiedBy>
  <dcterms:modified xsi:type="dcterms:W3CDTF">2011-06-29T10:27:09Z</dcterms:modified>
  <cp:revision>1</cp:revision>
  <dc:subject/>
  <dc:title>Geen diatitel</dc:title>
</cp:coreProperties>
</file>