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C36A-0D0B-444E-A668-910D2077F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9AE8-327B-48C1-8D6D-4FB915DDC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4EE1-EDFF-4BB3-92E6-791278309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D271-17D3-4363-A6D3-D0556AAD8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03C4-9CFB-4FBD-8434-71CAD12A1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7BC6-6448-4892-A75B-CCDB4BDE6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51CA-165C-4452-93EF-9F0447B45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233E-8FE7-4EF4-92D1-C75541899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DB40-1688-457D-B097-430CB0F04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9DF2-7F14-4686-A180-E172FF63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D09F-5F92-4797-8F18-98C85AB0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AAD8-5650-4528-97F1-7077CDC8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4E54C-0E24-4575-BA96-7078C5A8C9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9T10:25:38Z</dcterms:created>
  <dc:creator>ERIK</dc:creator>
  <dc:description/>
  <dc:language>en-US</dc:language>
  <cp:lastModifiedBy>ERIK</cp:lastModifiedBy>
  <dcterms:modified xsi:type="dcterms:W3CDTF">2011-06-29T10:27:09Z</dcterms:modified>
  <cp:revision>1</cp:revision>
  <dc:subject/>
  <dc:title>Geen diatitel</dc:title>
</cp:coreProperties>
</file>