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E80-581E-4C0B-8E95-4BD16462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E41-CDD5-4131-A2CF-7F4C814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C39-5F62-441C-9F0C-E62BE2D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ED9-174F-4D87-9215-E4F44A1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FF5-FA84-4E5A-AB1F-3C2A7EFE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7A8-4E78-4D05-A6B7-6DB7197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B38-E4D4-459C-8BC9-84A301B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D53-A09E-45A0-AAB4-5B91098B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B9A-55E0-44B4-93D8-0D79B074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A37-D5FC-4819-A873-DF6AFB5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251-90C4-4A90-8961-E26DEA4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EE8-9150-4E8E-A118-D428BE7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E3AA-E5A9-4F4B-B7EF-699AEC500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9:36Z</dcterms:created>
  <dc:creator>ERIK</dc:creator>
  <dc:description/>
  <dc:language>en-US</dc:language>
  <cp:lastModifiedBy>ERIK</cp:lastModifiedBy>
  <dcterms:modified xsi:type="dcterms:W3CDTF">2011-06-29T10:23:21Z</dcterms:modified>
  <cp:revision>1</cp:revision>
  <dc:subject/>
  <dc:title>Geen diatitel</dc:title>
</cp:coreProperties>
</file>