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21A-7FF7-49BA-8F89-B214F426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F8E-90C1-4131-A33D-3DBD17E0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D82-2942-4F58-922C-D7CE3CCC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86C-E250-41CA-9533-E6F512A1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5C9-AAE1-41D9-8EE0-F9AC89BC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088-3C38-4A97-9B95-D917987A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CE4-B536-4952-AC17-FA70CA8B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DBF-062F-457A-943F-AADB33FE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F11-6397-40FD-8B7E-8C23CF77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C25-CA58-4787-A42D-E58DE38D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368-46DE-4751-B320-79182FB6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CB0-C3D9-4F46-A9AB-21D4A275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8B96-2272-4D78-A55E-F3C94E9C4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0:19:36Z</dcterms:created>
  <dc:creator>ERIK</dc:creator>
  <dc:description/>
  <dc:language>en-US</dc:language>
  <cp:lastModifiedBy>ERIK</cp:lastModifiedBy>
  <dcterms:modified xsi:type="dcterms:W3CDTF">2011-06-29T10:23:21Z</dcterms:modified>
  <cp:revision>1</cp:revision>
  <dc:subject/>
  <dc:title>Geen diatitel</dc:title>
</cp:coreProperties>
</file>