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263-A0B5-4DDD-AE57-8424EF96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CF6-81DD-4278-8FA8-46E8312E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3AC-2B82-4FC6-9569-0A6ECAB7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2AA-7760-4AF0-A366-BE89CD0D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819-BCCF-43DE-B756-538289D6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6D4-0C09-428B-8E38-C9DDBBF9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DDF-140F-4964-853A-64D783FD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C17-D2F8-4F14-84E1-F894873F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12C-74E3-4BB7-BD97-36740538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BEF-E10E-4E40-8B68-97C75F3C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BC6-15EE-4EFE-833D-6CFD6A7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816-EDE3-498B-9D16-B0E0D52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5843-D266-449E-A2C1-A132E30C2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15:18Z</dcterms:created>
  <dc:creator>ERIK</dc:creator>
  <dc:description/>
  <dc:language>en-US</dc:language>
  <cp:lastModifiedBy>ERIK</cp:lastModifiedBy>
  <dcterms:modified xsi:type="dcterms:W3CDTF">2011-06-29T10:19:31Z</dcterms:modified>
  <cp:revision>1</cp:revision>
  <dc:subject/>
  <dc:title>Geen diatitel</dc:title>
</cp:coreProperties>
</file>