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0C22-070D-47C6-B7BF-26F5B81F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4559-A23D-4BD7-AAB1-11565C9E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9BC8-DF98-473E-8BD4-E35ABA3C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89DB-6066-4E10-914D-D9C1531B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1EAA-186F-4173-B755-593E881B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CC98-78CB-4DBD-B815-059AA221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D25A-E2AC-4416-AC3E-E40BA809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0C69-7A8E-454B-9DE4-312658A6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BE99-2671-448D-879F-AE885462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F2C0-AC1B-4BFC-A3DE-E5528D61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C504-18E3-4FE5-99CB-37D551FE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47F0-991A-42F8-86AC-82EDFA37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A963-2000-462B-8357-48AAE7C3C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10:15:18Z</dcterms:created>
  <dc:creator>ERIK</dc:creator>
  <dc:description/>
  <dc:language>en-US</dc:language>
  <cp:lastModifiedBy>ERIK</cp:lastModifiedBy>
  <dcterms:modified xsi:type="dcterms:W3CDTF">2011-06-29T10:19:31Z</dcterms:modified>
  <cp:revision>1</cp:revision>
  <dc:subject/>
  <dc:title>Geen diatitel</dc:title>
</cp:coreProperties>
</file>