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2A4-3B19-47AB-A5D1-ACC59312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1A2-DA08-4EB0-9B20-46F87906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3F4-372A-4A24-B1E9-E88344A0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1C4-4BAD-43F8-9CB4-F4407E35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C57-68E8-4C8C-85AF-A2B2CC18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F1C-076D-4711-9AEE-A047D6E2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4A6-B3A0-44C3-90F6-7088ED6C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10A-0CD0-4349-9D97-B8763E33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275-1E68-4003-9092-1BB66844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4D7-6B49-41E3-9BDA-791B77E2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D7D-7F22-4688-9347-9CC8B8FC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EBF-982B-4629-A133-EDCEDEC4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F775-54A8-42FF-AE3C-7702AA030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0:10:56Z</dcterms:created>
  <dc:creator>ERIK</dc:creator>
  <dc:description/>
  <dc:language>en-US</dc:language>
  <cp:lastModifiedBy>ERIK</cp:lastModifiedBy>
  <dcterms:modified xsi:type="dcterms:W3CDTF">2011-06-29T10:15:07Z</dcterms:modified>
  <cp:revision>1</cp:revision>
  <dc:subject/>
  <dc:title>Geen diatitel</dc:title>
</cp:coreProperties>
</file>