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EEE-F59B-4D83-AE3E-B441D2DF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F52-4CCF-43A2-A1D1-9F47DA9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0F5-EC63-495E-8671-0625E17C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327-AD12-4BF4-8B48-C3704C34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0A0-4839-432B-9E81-C796FD31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952-1EEF-40C9-AE6E-32A86FB5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7C6-EB70-445E-BAB6-F4DF8E9A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C5B-1352-44A5-8E96-40D34F99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CAE-5B4B-4D66-8551-036FC6DD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ED3-0ED8-4D48-AA4A-6A34D0BE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282-00F2-41A9-A818-9998AAA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EC1-68B2-4E96-8B14-702EFAB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5C1D-D95F-4AB3-A612-84613A7C3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10:56Z</dcterms:created>
  <dc:creator>ERIK</dc:creator>
  <dc:description/>
  <dc:language>en-US</dc:language>
  <cp:lastModifiedBy>ERIK</cp:lastModifiedBy>
  <dcterms:modified xsi:type="dcterms:W3CDTF">2011-06-29T10:15:07Z</dcterms:modified>
  <cp:revision>1</cp:revision>
  <dc:subject/>
  <dc:title>Geen diatitel</dc:title>
</cp:coreProperties>
</file>