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A83-4EE7-4F95-9570-76883B8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F02-B422-4B8E-9CF5-62360CBC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135-3072-448F-9D93-13BBCA11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8A4-D010-4387-9DCB-9A5D9D2C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D58-3753-4685-9930-7D454FD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EC6-D99C-45DD-9748-C52B0F6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91B-95C1-46C7-AE77-11732F1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48D-E68B-4888-A70A-7B7886F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D22-7088-4118-A789-0CB577F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042-28B2-4780-AC80-71F1211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5BE-6474-497C-A409-D1D21B0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221-562D-423B-9BC9-0D36E02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C9E-8C02-4F0D-AF9E-CF7483DB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00:50Z</dcterms:created>
  <dc:creator>ERIK</dc:creator>
  <dc:description/>
  <dc:language>en-US</dc:language>
  <cp:lastModifiedBy>ERIK</cp:lastModifiedBy>
  <dcterms:modified xsi:type="dcterms:W3CDTF">2011-06-29T10:09:34Z</dcterms:modified>
  <cp:revision>1</cp:revision>
  <dc:subject/>
  <dc:title>Geen diatitel</dc:title>
</cp:coreProperties>
</file>