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157-518E-4241-BE29-78508FBB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81C-FBCD-4308-BA49-5DADE049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546-74B7-4270-8D75-26113C8C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1BE-54A4-4328-A922-B6D99E30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612-9D6B-406E-81BE-DFAB988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2F9-A01E-406D-B607-12D9013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055-C865-4AA5-9B4D-370A565C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783-6660-46D3-A8C4-70377F8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3A5-F9F8-4B5C-AD73-A7F86650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45F-EBE4-45DC-8F9A-4A59780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3BF-72F0-47EA-9E0C-FEEB140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8E5-B8E8-4FDF-896B-376428A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2E2E-5D54-49C8-85C9-82739F1D8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0:00:50Z</dcterms:created>
  <dc:creator>ERIK</dc:creator>
  <dc:description/>
  <dc:language>en-US</dc:language>
  <cp:lastModifiedBy>ERIK</cp:lastModifiedBy>
  <dcterms:modified xsi:type="dcterms:W3CDTF">2011-06-29T10:09:34Z</dcterms:modified>
  <cp:revision>1</cp:revision>
  <dc:subject/>
  <dc:title>Geen diatitel</dc:title>
</cp:coreProperties>
</file>