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6CF9-AF41-4051-814C-0120C34B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A0A9-4A66-40E6-9C11-9CC1178F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5D07-A389-4A84-B3F1-9C0643E0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5659-36F5-45E8-9649-9D114317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6DC6-F802-402A-A8E4-5830C0E5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C3CB-426C-407B-9C5C-E649CC09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DAD-7B72-4E52-ABF5-3B589120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C57-BDEE-4A04-80B9-F56172A2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D571-005F-49FA-A1D0-ACE517B4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A3D-A1C0-4FBC-A32E-D8A5DF9C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23C1-6EA0-426B-8D32-C7563E1C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A2A5-4E0B-4D72-AC58-5AB838A0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19BC-7558-4576-9AA8-CC4EC9B34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9:56:50Z</dcterms:created>
  <dc:creator>ERIK</dc:creator>
  <dc:description/>
  <dc:language>en-US</dc:language>
  <cp:lastModifiedBy>ERIK</cp:lastModifiedBy>
  <dcterms:modified xsi:type="dcterms:W3CDTF">2011-06-29T10:00:40Z</dcterms:modified>
  <cp:revision>1</cp:revision>
  <dc:subject/>
  <dc:title>Geen diatitel</dc:title>
</cp:coreProperties>
</file>