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764-F519-489C-9E43-E6BE9E4C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A19-63A5-4001-B453-DB421725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752-CD9D-4FD6-86DA-D7680470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702-1B38-4A33-B159-A555C824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96B-59A0-4945-B958-25EB5EE1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D5B-C637-42BE-B780-99587F46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D8F-8685-4C4C-A92D-56134A2E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CC8-AB2B-466F-955F-738BD8A5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501-6CBB-407D-87DF-AF74C929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950-ADFF-47F7-B5F5-A3335DF8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9C3-6F5F-47AA-854E-274DD991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916-D987-4785-B7A7-26683DA4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4478-99A3-4729-83AD-D2F1DC78D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56:50Z</dcterms:created>
  <dc:creator>ERIK</dc:creator>
  <dc:description/>
  <dc:language>en-US</dc:language>
  <cp:lastModifiedBy>ERIK</cp:lastModifiedBy>
  <dcterms:modified xsi:type="dcterms:W3CDTF">2011-06-29T10:00:40Z</dcterms:modified>
  <cp:revision>1</cp:revision>
  <dc:subject/>
  <dc:title>Geen diatitel</dc:title>
</cp:coreProperties>
</file>