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5EE-3332-412A-9AAA-626D8F70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362-4844-4A8C-A8EB-3DFBCF9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9EE-7E56-4F02-BB21-1CDBF3E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1C7-815B-4270-9E29-70DFA39D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C4E-F44E-440A-B48E-063E7A63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E6D-C604-4E1F-B89F-31F078C4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DEB-94AA-4533-9CAC-86317C8B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50A-DE60-4EF8-A74F-2DB38FD6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31E-0FD9-4CD8-B168-0C388A94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473-2CC9-471A-8063-E6FC201A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368-9EC5-44BF-B0B2-FFC6808D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6C3-F6F4-4E66-A5BF-D1C0087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3208-C2EB-47A7-A790-8940DC5B9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52:29Z</dcterms:created>
  <dc:creator>ERIK</dc:creator>
  <dc:description/>
  <dc:language>en-US</dc:language>
  <cp:lastModifiedBy>ERIK</cp:lastModifiedBy>
  <dcterms:modified xsi:type="dcterms:W3CDTF">2011-06-29T09:56:38Z</dcterms:modified>
  <cp:revision>1</cp:revision>
  <dc:subject/>
  <dc:title>Geen diatitel</dc:title>
</cp:coreProperties>
</file>