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FDE-3C33-4E56-9098-2D470C87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DCF-60B9-479F-99C9-6D7E024D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25B-B173-4A6A-AB63-CE1C340F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688-6DC2-4ABD-ADCF-BD7C7B33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A6A-4974-411A-8C64-9982BFE1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CF4-A36A-435E-BE26-3CDE6954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27A-F364-462E-8645-CFCFA9E0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2EF-E90E-449D-AFEF-48172BDF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E0F-9E0E-4C09-BC39-02246F44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8E5-7D7A-4D25-B7C1-065123C3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278-67A2-46E6-BD2A-9CE862F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781-D667-49AE-B8E2-C66C52A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0C21-FA8A-43B2-BD6B-C6A23C1A6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52:29Z</dcterms:created>
  <dc:creator>ERIK</dc:creator>
  <dc:description/>
  <dc:language>en-US</dc:language>
  <cp:lastModifiedBy>ERIK</cp:lastModifiedBy>
  <dcterms:modified xsi:type="dcterms:W3CDTF">2011-06-29T09:56:38Z</dcterms:modified>
  <cp:revision>1</cp:revision>
  <dc:subject/>
  <dc:title>Geen diatitel</dc:title>
</cp:coreProperties>
</file>