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096-1335-48FC-BFD5-FFD44965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B4D-F512-4FDC-A63B-8C1C8882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B9E-54DB-4CEF-8248-0CA1E920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AB2-DAE1-46BD-9DD1-EDE83076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08D-7DFC-4644-9993-E72AE874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2F6-CAD4-44F7-8BE0-DCF7786A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4AC-7940-445D-A9AA-A0CC9D9D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B1A-29DF-459E-A67B-FEB01808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BD9-527E-45D7-AAEB-E89AB656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A09-1553-4841-AF43-1BE1C032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D87-195C-4248-9803-63CAA713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04F-261D-45EF-BDB5-8AC4BCBD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BF6B-A4F1-4919-BDD5-AE50A2D2D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47:21Z</dcterms:created>
  <dc:creator>ERIK</dc:creator>
  <dc:description/>
  <dc:language>en-US</dc:language>
  <cp:lastModifiedBy>ERIK</cp:lastModifiedBy>
  <dcterms:modified xsi:type="dcterms:W3CDTF">2011-06-29T09:52:05Z</dcterms:modified>
  <cp:revision>1</cp:revision>
  <dc:subject/>
  <dc:title>Geen diatitel</dc:title>
</cp:coreProperties>
</file>