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4BB5-5117-4A5C-BDDA-D3581EF30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0EF4-4433-47D3-8DC9-754B7963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8B27-DF0A-4DB5-9EAC-C8F21093B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E61E-3618-4583-8CC5-CBBD71075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2BB6-89DA-4D43-AE74-205B979A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65EA-88D4-427E-B072-DA5DF4D4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DC86-65A8-4334-B5DF-83C9D569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5F64-DF6C-41D0-A5B9-8F891CA6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F647-D061-40F6-AB02-BD1C72F0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E7B5-1EC9-4929-84EA-C762DEED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E353-D7D4-4C73-B1A1-EBCBEA8A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0646-2337-426E-B06D-3239CC4D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C8AA-BE14-45DF-AF30-458C3E147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09:47:21Z</dcterms:created>
  <dc:creator>ERIK</dc:creator>
  <dc:description/>
  <dc:language>en-US</dc:language>
  <cp:lastModifiedBy>ERIK</cp:lastModifiedBy>
  <dcterms:modified xsi:type="dcterms:W3CDTF">2011-06-29T09:52:05Z</dcterms:modified>
  <cp:revision>1</cp:revision>
  <dc:subject/>
  <dc:title>Geen diatitel</dc:title>
</cp:coreProperties>
</file>