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3C9-6CE3-4158-B873-3FD83BAE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210-5B08-4AE6-9087-31A32F3B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CD1-2F63-4235-BE9E-B47083ED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8CA-5A82-44C1-9F74-2CF7DA5E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8DB-BF82-4729-998C-A46ACFFD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759-93FD-424D-A3A3-7C80F77B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D20-140A-4088-8840-EA280A6A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009-84DA-4FBF-A752-086E5B48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081-EC93-4FAB-8F80-BF98489D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7AA-DF8F-4B57-8EC8-864CBE3D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1DA-C034-4250-9B84-067C7932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A2E-9744-4109-8EA3-ED498878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FDE1-EE59-49B3-A232-17475633D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43:42Z</dcterms:created>
  <dc:creator>ERIK</dc:creator>
  <dc:description/>
  <dc:language>en-US</dc:language>
  <cp:lastModifiedBy>ERIK</cp:lastModifiedBy>
  <dcterms:modified xsi:type="dcterms:W3CDTF">2011-06-29T09:47:04Z</dcterms:modified>
  <cp:revision>1</cp:revision>
  <dc:subject/>
  <dc:title>Geen diatitel</dc:title>
</cp:coreProperties>
</file>