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9B1-3706-4D6C-9807-B73DBCBE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D33-9341-4ECA-B22E-B0CC74F8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4D6-179A-4B95-960E-FC66B77A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184-959A-4388-A6B8-C569BC01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534-DBE5-4B79-A961-86BB55FF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917-1276-4231-B7E3-DDA5641A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3C2-C36E-49FB-B8BE-D4808FD1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68E-AA68-42B6-9B6D-BE3FAEB2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006-D062-45B8-BD72-3DA66502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39F-D622-4662-85B2-3FAB8A41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638-D995-48C6-90AB-F1599784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032-C60E-4605-849E-5CB1635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3C0C-4BE2-43E5-A5B0-583D9A09A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43:42Z</dcterms:created>
  <dc:creator>ERIK</dc:creator>
  <dc:description/>
  <dc:language>en-US</dc:language>
  <cp:lastModifiedBy>ERIK</cp:lastModifiedBy>
  <dcterms:modified xsi:type="dcterms:W3CDTF">2011-06-29T09:47:04Z</dcterms:modified>
  <cp:revision>1</cp:revision>
  <dc:subject/>
  <dc:title>Geen diatitel</dc:title>
</cp:coreProperties>
</file>