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8AD7-0FF9-4A84-8BCF-27B604D0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AA5B-9036-493A-A98A-02725AA5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E25-3560-4E13-8221-E4750EED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E3BC-CC7A-4C88-A2D5-46785081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CCE-185D-4558-A140-C3F64F16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BFA-97DC-4E66-8D93-13BF9995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296-D79A-4801-9011-EDAB29BA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8FA-42D0-421C-9746-1A70A59A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C9C-8C86-4847-8CE4-ED130357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0ED-E9A6-4F73-AA5A-7BB6F704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BCA-F932-4053-96A5-6351BC8A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D7D1-31B2-4BDE-993C-98844311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99C8-BE36-4E1B-85CA-2CC8DBEB6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36:19Z</dcterms:created>
  <dc:creator>ERIK</dc:creator>
  <dc:description/>
  <dc:language>en-US</dc:language>
  <cp:lastModifiedBy>ERIK</cp:lastModifiedBy>
  <dcterms:modified xsi:type="dcterms:W3CDTF">2011-06-29T09:42:54Z</dcterms:modified>
  <cp:revision>1</cp:revision>
  <dc:subject/>
  <dc:title>Geen diatitel</dc:title>
</cp:coreProperties>
</file>