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206-0865-4683-8C16-855498FA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583-ED74-49AD-974C-0BA0B5B7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31E-D5EF-4691-AD57-EB34CEC9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554-00B9-440A-B97E-C0D29193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CE9-F5CD-44DD-B739-6243FD5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949-14FD-4A17-B384-F9846DD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8D1-97CE-4F38-8C48-954F4F02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670-949D-40EB-8045-E2D55F70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231-65E5-47D2-BAEE-0D2AD0A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686-E38F-4481-B8C6-7F9F690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FAA-2706-431D-B1E8-F99A2A0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DAD-3FCA-46AE-9222-4196756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7993-7168-416D-A1D8-BC83CD48D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6:19Z</dcterms:created>
  <dc:creator>ERIK</dc:creator>
  <dc:description/>
  <dc:language>en-US</dc:language>
  <cp:lastModifiedBy>ERIK</cp:lastModifiedBy>
  <dcterms:modified xsi:type="dcterms:W3CDTF">2011-06-29T09:42:54Z</dcterms:modified>
  <cp:revision>1</cp:revision>
  <dc:subject/>
  <dc:title>Geen diatitel</dc:title>
</cp:coreProperties>
</file>