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589-8CBE-40A5-8D83-FE243B94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8F7-8B64-4109-B987-A40B50C2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629-F285-40D7-A4D4-10564A10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AC6-A816-47D2-AEC4-2E6BB60E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F73-C1C8-4FB5-B1A5-18A69F58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3B5-9BC1-4AF0-BFDB-94C083AE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85F-8833-496E-9B4B-D5CD4F9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9CF-EB81-4BEF-9A5E-2019542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222-9592-4443-84E4-1C211D1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41D-6346-4BAF-9252-7F48251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65C-8E54-40EC-BC85-2FF8478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CFC-64E0-4238-9F9E-2ABED66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E6D5-C95C-4347-BDB1-380065232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0:58Z</dcterms:created>
  <dc:creator>ERIK</dc:creator>
  <dc:description/>
  <dc:language>en-US</dc:language>
  <cp:lastModifiedBy>ERIK</cp:lastModifiedBy>
  <dcterms:modified xsi:type="dcterms:W3CDTF">2011-06-29T09:36:06Z</dcterms:modified>
  <cp:revision>1</cp:revision>
  <dc:subject/>
  <dc:title>Geen diatitel</dc:title>
</cp:coreProperties>
</file>