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3B4-50C7-46AF-A17F-E639238F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FE9-39B5-4D83-AED4-98035973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40A-5734-4DB4-9063-8B2EBA08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FB1-E8C5-4244-9907-5AB211EA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480-67F7-48BD-AA6A-0DC78888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083-B683-4523-9212-8A804062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4F6-C43A-4FB3-9FB7-202519A6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E60-8356-4657-B94F-EFC95DC5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D3E-AB9B-4B61-9CB2-B7A8E9C7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2A3-9A23-411F-8D67-DB5F5E2F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1F5-94B9-42EF-ADDD-7751A34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4D8-8192-4DD9-895D-AB73DA2C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E250-D00D-44C3-94B1-78276FE20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68835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0:58Z</dcterms:created>
  <dc:creator>ERIK</dc:creator>
  <dc:description/>
  <dc:language>en-US</dc:language>
  <cp:lastModifiedBy>ERIK</cp:lastModifiedBy>
  <dcterms:modified xsi:type="dcterms:W3CDTF">2011-06-29T09:36:06Z</dcterms:modified>
  <cp:revision>1</cp:revision>
  <dc:subject/>
  <dc:title>Geen diatitel</dc:title>
</cp:coreProperties>
</file>