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F6B-B333-4348-8B22-3C9C6C32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0E6F-641F-4F44-9522-D9F1C34F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52D-4F12-41AF-AA20-FB26FB60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2D57-BBCC-458A-B47B-3D5C1A0D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091-F5D1-414B-A3AC-117CA953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38F-C40C-48B9-B68E-74BFF576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9DC8-1695-468C-9B5C-3B3485E1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1A1-6DF7-497C-904A-9FA520D6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3F5-B736-495E-861B-72A9F8A3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06A6-2BD7-477E-A93E-BACE0E8F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5761-324B-4B1F-8D69-B4B1F05C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B0D4-4242-46A9-84E0-40AD3E1E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9FC4-14DA-4680-A4C9-276E0B021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9:47:21Z</dcterms:created>
  <dc:creator>ERIK</dc:creator>
  <dc:description/>
  <dc:language>en-US</dc:language>
  <cp:lastModifiedBy>ERIK</cp:lastModifiedBy>
  <dcterms:modified xsi:type="dcterms:W3CDTF">2011-06-29T09:52:05Z</dcterms:modified>
  <cp:revision>1</cp:revision>
  <dc:subject/>
  <dc:title>Geen diatitel</dc:title>
</cp:coreProperties>
</file>