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92C-B308-4579-9D20-923803CD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056-C790-431C-8AD6-E9A48193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7C8-8226-4B71-938F-2A1606F4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781-5074-4637-A299-EC618638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D65-7339-45AE-B49C-A4133264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B13-8CC8-4B07-A04D-1ADBD2B8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FA8-965D-471F-8C24-4BD3B550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E16-F8D2-4AA6-AD4B-5BE26A3C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FCF-8437-499A-ABC3-7F1DE488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703-43C4-416F-B66A-5A7144AA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D28-A096-4DA1-A23A-645ED3E8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BB2-0194-487E-9F3E-2241EBA6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7FB2-D3E7-4C69-A9B2-B93E9D0D9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47:21Z</dcterms:created>
  <dc:creator>ERIK</dc:creator>
  <dc:description/>
  <dc:language>en-US</dc:language>
  <cp:lastModifiedBy>ERIK</cp:lastModifiedBy>
  <dcterms:modified xsi:type="dcterms:W3CDTF">2011-06-29T09:52:05Z</dcterms:modified>
  <cp:revision>1</cp:revision>
  <dc:subject/>
  <dc:title>Geen diatitel</dc:title>
</cp:coreProperties>
</file>