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1720-E871-46EC-AE24-B0FC7321E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9DE7-C564-4D84-ACD1-342B26D0D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6197-2C6F-4300-9DF4-009B43388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7A6B-98A4-41BA-9195-CC4033727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C172-BF88-4F5F-AF80-2E5D22F81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F4F7-158E-44C2-8B82-C1F9EBEEE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510A-2FC0-4F92-B7AB-94C1113DD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7C91-E3FB-445C-A5F4-72AB9529F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427D-868E-4BBB-AABF-DCE6B2C1E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BCC9-5259-4DFD-A69B-082009649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D2AE-B4E5-4B63-AC42-417043FA3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8AC2-AAB9-4A29-8442-F1805B932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24E89-7154-4F28-8EA3-8958E02F14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9T10:02:48Z</dcterms:created>
  <dc:creator>ERIK</dc:creator>
  <dc:description/>
  <dc:language>en-US</dc:language>
  <cp:lastModifiedBy>ERIK</cp:lastModifiedBy>
  <dcterms:modified xsi:type="dcterms:W3CDTF">2011-06-19T10:07:04Z</dcterms:modified>
  <cp:revision>1</cp:revision>
  <dc:subject/>
  <dc:title>Geen diatitel</dc:title>
</cp:coreProperties>
</file>