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D60-FD23-4760-A5FB-6AFE734A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03C-DB17-4CCB-A3C1-315AA922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071-8778-4764-9488-A33FBB5C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1DA-F549-48B0-820D-96718FE9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6F2-1656-43F8-97B6-7DA71AA4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8D9-765E-482A-B8F8-B031A258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19B-346A-4F8E-AEA8-DCECCA8C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80E-F37A-404B-99DD-02D93FE7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D0F-8275-4D55-8D40-A46E880D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236-D9B9-4992-9BF2-FC595B9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BED-B1DB-4ED8-A481-81E4B453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BC8-1FC9-48E2-A370-31143E9E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0DCC-EE21-4867-938A-4EDA70FFC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10:02:48Z</dcterms:created>
  <dc:creator>ERIK</dc:creator>
  <dc:description/>
  <dc:language>en-US</dc:language>
  <cp:lastModifiedBy>ERIK</cp:lastModifiedBy>
  <dcterms:modified xsi:type="dcterms:W3CDTF">2011-06-19T10:07:04Z</dcterms:modified>
  <cp:revision>1</cp:revision>
  <dc:subject/>
  <dc:title>Geen diatitel</dc:title>
</cp:coreProperties>
</file>