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F64-AB61-4A29-AA44-3A8ABFDD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230-F36E-43F4-BFE8-F889F82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16B-F826-4D81-ACAA-2BE1A9BF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0B0-8EE3-4197-833F-1847876D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D0F-180D-4A60-9893-51C0C45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E84-1539-45D5-97CF-B3BDEB4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4D2-C202-4094-8B56-C2FD433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42F-605F-429D-ABEE-E7E52037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D13-193E-48C3-BB04-1BE061C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7E6-C4A7-4559-91A5-5600E3F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503-ACFC-4523-8EF2-81206DC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2A6-9E70-496D-838E-6031AD6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8EF-CA30-4BA6-AB20-88D860D44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8:24Z</dcterms:created>
  <dc:creator>ERIK</dc:creator>
  <dc:description/>
  <dc:language>en-US</dc:language>
  <cp:lastModifiedBy>ERIK</cp:lastModifiedBy>
  <dcterms:modified xsi:type="dcterms:W3CDTF">2011-06-19T10:02:41Z</dcterms:modified>
  <cp:revision>1</cp:revision>
  <dc:subject/>
  <dc:title>Geen diatitel</dc:title>
</cp:coreProperties>
</file>