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BF6-4A0D-4853-8067-2E6220B3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D07-5D6A-43E5-85AB-2A470F22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09E-1A67-4B6D-8E5A-53DEE948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502-FB60-4AA6-BFCE-AAED0B1F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A1B-D69F-4C3B-A1EF-62188492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ABF-6189-4635-A732-57FE3FF4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506-E232-4F38-8245-C113FA21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50C-B7F6-4883-9ED0-BA6F4FCF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0D2-7046-4C76-9579-EAB9FD79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FC9-39C9-475C-94BE-AE34B7C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1D8-26F6-4C44-AA74-C46C140F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01A-62D5-4C30-A694-9E9EB46E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9599-E23C-4B58-B2B1-4949A5FAD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58:24Z</dcterms:created>
  <dc:creator>ERIK</dc:creator>
  <dc:description/>
  <dc:language>en-US</dc:language>
  <cp:lastModifiedBy>ERIK</cp:lastModifiedBy>
  <dcterms:modified xsi:type="dcterms:W3CDTF">2011-06-19T10:02:41Z</dcterms:modified>
  <cp:revision>1</cp:revision>
  <dc:subject/>
  <dc:title>Geen diatitel</dc:title>
</cp:coreProperties>
</file>