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6CAE-7B82-40FA-84EC-AE4AF884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9F2-A201-4060-9C6C-35162FA0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CAA0-4EB2-41BB-8A1D-2E004E6C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25D-5076-4BE6-BB7F-A3A3FC32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395-9B78-40C4-A068-A1DFAD65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DD7-6B00-44E5-BF6B-37670070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978-FB2B-4AEB-8DF0-61DAEB2C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1B53-D4FB-42A3-9192-DC853F5F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940C-99DB-4E04-8D85-5DEFF470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7B3-F45B-4181-AE28-80D001FD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671-23BF-4545-ACDB-3CAD228A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F262-AC91-4F63-8A55-5A7BFC0E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3581-5B92-4E03-AF27-74AF0201A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9:54:44Z</dcterms:created>
  <dc:creator>ERIK</dc:creator>
  <dc:description/>
  <dc:language>en-US</dc:language>
  <cp:lastModifiedBy>ERIK</cp:lastModifiedBy>
  <dcterms:modified xsi:type="dcterms:W3CDTF">2011-06-19T09:58:19Z</dcterms:modified>
  <cp:revision>1</cp:revision>
  <dc:subject/>
  <dc:title>Geen diatitel</dc:title>
</cp:coreProperties>
</file>