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CF21-EA3E-4924-BDB5-75BDB7A4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7008-41AF-440C-8AAD-1379B967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170B-3D42-45C8-813A-47F524AD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43E6-F592-43EF-818F-53AA1700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5A77-DA0A-4991-8FDA-2722358D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62D0-7B9A-41B3-BE74-04991BEE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9E8D-D3F9-4558-8316-8F0B9AE5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74B8-F959-4CA9-9B74-806CB770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5522-1441-46A4-8165-39E5D3F3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C681-0E7A-43F5-B808-714081C1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D128-683F-497A-BB9B-81E96370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DA74-DB2B-4486-ABAB-7740EA15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F0FD-C7A5-423F-A675-568769B8E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09:54:44Z</dcterms:created>
  <dc:creator>ERIK</dc:creator>
  <dc:description/>
  <dc:language>en-US</dc:language>
  <cp:lastModifiedBy>ERIK</cp:lastModifiedBy>
  <dcterms:modified xsi:type="dcterms:W3CDTF">2011-06-19T09:58:19Z</dcterms:modified>
  <cp:revision>1</cp:revision>
  <dc:subject/>
  <dc:title>Geen diatitel</dc:title>
</cp:coreProperties>
</file>