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025-7D75-4F6C-BE9D-A20D912A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69F-D495-415A-B9B2-BAD4288E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C2E-3AB5-4725-8F97-726E9263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AF5-1917-44CD-817C-588FBF58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A038-D448-4399-8E62-F8A890FB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ED2-3DE1-4311-BEB3-76A569B6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67B-5F78-4118-867A-B77278D0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798-813C-4F02-9567-BC988932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B3E-49F3-400B-9AC0-4FE0E4E4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9DD-F67B-4C25-8076-1471C4C8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0E5-DAF5-4A82-9201-AD5964E8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A1A-AE8E-46BD-963D-E0942BF2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F8EF-67A2-402C-80A6-0A703D482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54:44Z</dcterms:created>
  <dc:creator>ERIK</dc:creator>
  <dc:description/>
  <dc:language>en-US</dc:language>
  <cp:lastModifiedBy>ERIK</cp:lastModifiedBy>
  <dcterms:modified xsi:type="dcterms:W3CDTF">2011-06-19T09:58:19Z</dcterms:modified>
  <cp:revision>1</cp:revision>
  <dc:subject/>
  <dc:title>Geen diatitel</dc:title>
</cp:coreProperties>
</file>