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4BF4-A9D3-421E-9E24-749C0A9D6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2119-BBCA-4049-A0DE-E8A92614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1874-0D1B-45BD-AD71-02A815E57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44DB-E4E8-4C26-8BD0-6DB3DED83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CEC5-A7EB-4138-81B2-14E7B366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362A-AA63-453C-8C13-A5943847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3A2B-C3BE-4E6B-B9C6-ED2010A2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E99A-54CD-4EDC-B6A6-E0B9CA5E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236D-B81A-4B0A-B223-63E08A8C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04F4-46A9-4EAE-A9DE-7465B295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D7F2-C3B9-4291-BAC2-C99DE252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5662-4981-4BF6-939A-AA2A4407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6E22-8F56-4270-A8F6-1AD240A4E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9T09:54:44Z</dcterms:created>
  <dc:creator>ERIK</dc:creator>
  <dc:description/>
  <dc:language>en-US</dc:language>
  <cp:lastModifiedBy>ERIK</cp:lastModifiedBy>
  <dcterms:modified xsi:type="dcterms:W3CDTF">2011-06-19T09:58:19Z</dcterms:modified>
  <cp:revision>1</cp:revision>
  <dc:subject/>
  <dc:title>Geen diatitel</dc:title>
</cp:coreProperties>
</file>