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F42-F5F1-4C89-85B7-EA2BCA74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AF0-462E-4340-A50F-B18B106F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BED-97C8-474C-A529-2EA044D5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A34-2BE1-4B49-B65C-32E518B9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57F-F547-449C-A84A-BE31F3D4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B2F-0E72-403C-8701-D54E17D4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020-ADBC-444E-A2A3-53070074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6B9-50B8-43EB-A02E-0503DE9F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7BF-D304-4A0A-8034-C7CFC448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EC1-F9A5-4C24-A26E-02C7BB9E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305-105D-4546-A5A9-BD503319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90A-5347-4AAE-B53F-9E4BB2AA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6580-9286-4828-9FAE-568D274E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48:08Z</dcterms:created>
  <dc:creator>ERIK</dc:creator>
  <dc:description/>
  <dc:language>en-US</dc:language>
  <cp:lastModifiedBy>ERIK</cp:lastModifiedBy>
  <dcterms:modified xsi:type="dcterms:W3CDTF">2011-06-19T09:54:37Z</dcterms:modified>
  <cp:revision>1</cp:revision>
  <dc:subject/>
  <dc:title>Geen diatitel</dc:title>
</cp:coreProperties>
</file>