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E56-2032-4FA4-80A0-06422A68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DCF-6A16-4200-89C4-94781ED3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C01-B834-4047-83BC-2DC14BD6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B20-FE5F-45D1-97EE-8A7450B8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CC8-B1C5-4A25-9FD1-72D66827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20B-1C12-4848-996C-F4B5584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6B8-CBDE-4A22-8E6C-503A2284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639-E894-4019-8FCA-62079A6C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B22-5DCF-4189-93BA-CB358219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69E-4BCF-4FC3-86A8-9447548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79E-B000-452F-AC51-D61912A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DC2-563F-4CFA-8285-ADB53AC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D399-6665-49CC-9B59-59B358C4D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48:08Z</dcterms:created>
  <dc:creator>ERIK</dc:creator>
  <dc:description/>
  <dc:language>en-US</dc:language>
  <cp:lastModifiedBy>ERIK</cp:lastModifiedBy>
  <dcterms:modified xsi:type="dcterms:W3CDTF">2011-06-19T09:54:37Z</dcterms:modified>
  <cp:revision>1</cp:revision>
  <dc:subject/>
  <dc:title>Geen diatitel</dc:title>
</cp:coreProperties>
</file>