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234-D5A5-4E3B-9170-7CED6CF5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EAC-81E4-4084-8AD3-397B6AB4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245-D392-4041-A68B-5218BED5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27E-5098-41DC-A2A2-E7C2EB1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E50-DE04-4CA2-8118-A119F623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F79-C729-4ED9-A2E7-8CDA460D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707-B3C2-42F2-AF99-31379FD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737-C489-44AD-9DF9-A39EC85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E46-9D3F-4260-84D5-8E1D517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BB1-48C9-4B1D-B6A0-BA38769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2F2-E42A-437A-B654-7E256D0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EE2-8BDC-449A-BE2C-2C29E5C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E6E0-E728-4AD4-9FD6-B00A5BC2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44:16Z</dcterms:created>
  <dc:creator>ERIK</dc:creator>
  <dc:description/>
  <dc:language>en-US</dc:language>
  <cp:lastModifiedBy>ERIK</cp:lastModifiedBy>
  <dcterms:modified xsi:type="dcterms:W3CDTF">2011-06-19T09:47:46Z</dcterms:modified>
  <cp:revision>1</cp:revision>
  <dc:subject/>
  <dc:title>Geen diatitel</dc:title>
</cp:coreProperties>
</file>