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317-2327-4C03-A0AF-4B95621F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DCD-5768-4A25-8F1F-1AD0C337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8EC-5CA6-4F0A-8302-EE7E0E24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5E9-0244-4954-8E97-B7199AFE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E02C-41B1-48CF-AF14-22E76161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2857-777E-4061-8303-E475C806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0075-097D-4B35-8801-BA20DBFE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EE2E-E410-4A17-BDB5-997AB7F6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836-5EBC-48C5-9D59-83F6F038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2E98-0B1F-468E-878B-6E22D67A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0A6-BD49-47A5-9CD3-202BC867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DF5-A0DD-474D-9253-7FB2F0A2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C806-D929-46F4-A03D-96378AD7A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9:44:16Z</dcterms:created>
  <dc:creator>ERIK</dc:creator>
  <dc:description/>
  <dc:language>en-US</dc:language>
  <cp:lastModifiedBy>ERIK</cp:lastModifiedBy>
  <dcterms:modified xsi:type="dcterms:W3CDTF">2011-06-19T09:47:46Z</dcterms:modified>
  <cp:revision>1</cp:revision>
  <dc:subject/>
  <dc:title>Geen diatitel</dc:title>
</cp:coreProperties>
</file>