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9B7-89C2-4719-953C-122CE23C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D99-0D21-4EA1-B215-121E3EAB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BFD-CFD2-47BD-815D-F4F607F0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35E-C084-4FD8-8A19-8D0D96F5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746-8B37-4247-A1A8-1AA5BBBE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086-37D6-4C92-B3C8-31FCCEB2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114-31CA-424C-BC71-E606E3FE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96C-DE2F-426A-9A6A-D29E30D9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76A-67EB-4336-9C18-E4FBFA47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ADC-BBAE-4947-8088-F5192AB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1BC-A012-4F6E-BF92-8A8E589D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ECF-E368-4B67-A186-011C3F4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BE2A-9D27-4440-B90D-0CCB09DC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39:42Z</dcterms:created>
  <dc:creator>ERIK</dc:creator>
  <dc:description/>
  <dc:language>en-US</dc:language>
  <cp:lastModifiedBy>ERIK</cp:lastModifiedBy>
  <dcterms:modified xsi:type="dcterms:W3CDTF">2011-06-19T09:44:10Z</dcterms:modified>
  <cp:revision>1</cp:revision>
  <dc:subject/>
  <dc:title>Geen diatitel</dc:title>
</cp:coreProperties>
</file>