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2CF-2751-4BE0-9FCD-83F59F1F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9CE-13E7-4868-B42E-B57C7CBD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130-ACF7-4CE9-B120-C6665A35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D31-E9BE-46D3-9613-6CE26919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9EF-403E-43D6-B316-E1846355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2FF-A55E-46CB-B7AA-8F13C598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1A5-3239-4E8E-93D9-A4E595C9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204-27F9-4C0F-A0D4-3434CFDC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E33-CEFF-4EB7-9B87-89D717B7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808-158E-4C82-AFD6-D4B14B3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F60-1918-4315-B712-ECAD3E31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E32-FB6A-437D-B93A-B74953A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4240-A958-4F1E-A62D-C4E119A2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39:42Z</dcterms:created>
  <dc:creator>ERIK</dc:creator>
  <dc:description/>
  <dc:language>en-US</dc:language>
  <cp:lastModifiedBy>ERIK</cp:lastModifiedBy>
  <dcterms:modified xsi:type="dcterms:W3CDTF">2011-06-19T09:44:10Z</dcterms:modified>
  <cp:revision>1</cp:revision>
  <dc:subject/>
  <dc:title>Geen diatitel</dc:title>
</cp:coreProperties>
</file>