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37A9-01A2-4494-87F1-956E3E56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0C1-051C-4675-AC6B-142BC37F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8C7-1CEB-4405-A5B2-DBFBED6C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89A-10A7-47C6-BBE4-DA16EB24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2ED-14FA-4B21-9231-D2CE2247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23B-0982-4DF7-B185-BD8FC72D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847-8352-4833-B9CD-016A24EB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28C-1C50-46BF-848B-41601591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187-AB32-413A-9285-B4C7C6B0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A1B-27B4-4C32-AEB9-91030E07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8C2-2F52-4C66-88F5-6B891ABB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8BF9-6EBD-41EA-91A6-14EAA2F2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52C7-7039-44C5-A116-C073BADA4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33:44Z</dcterms:created>
  <dc:creator>ERIK</dc:creator>
  <dc:description/>
  <dc:language>en-US</dc:language>
  <cp:lastModifiedBy>ERIK</cp:lastModifiedBy>
  <dcterms:modified xsi:type="dcterms:W3CDTF">2011-06-19T09:39:35Z</dcterms:modified>
  <cp:revision>1</cp:revision>
  <dc:subject/>
  <dc:title>Geen diatitel</dc:title>
</cp:coreProperties>
</file>