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E47-522D-4C9C-A966-144399CE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074-5727-4760-B9D7-A1BDC430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46B-69F6-491D-B030-2FE417A7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B7A-1F90-411B-90FA-88A3BD66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D13-E80F-44B2-980B-AEF3C014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737-AC3F-4836-9208-7D2784F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359-33FC-4C0E-8BAD-7846B4BC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601-3547-4F98-8624-33E6EEAA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09D-FEC7-4765-882D-F05D24D2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DA6-9433-4DDA-87EB-E574449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3D8-DCCD-423A-ABDD-051D0030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12A-DECC-4D3F-B68C-0A6A8FE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D95-93C9-4AC2-8B39-3B08ECA7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33:44Z</dcterms:created>
  <dc:creator>ERIK</dc:creator>
  <dc:description/>
  <dc:language>en-US</dc:language>
  <cp:lastModifiedBy>ERIK</cp:lastModifiedBy>
  <dcterms:modified xsi:type="dcterms:W3CDTF">2011-06-19T09:39:35Z</dcterms:modified>
  <cp:revision>1</cp:revision>
  <dc:subject/>
  <dc:title>Geen diatitel</dc:title>
</cp:coreProperties>
</file>