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161-4156-4515-9DA2-D7348579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43C-B585-4607-8EDB-7059A94A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109-F981-4224-B721-09D8CF25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CD2-FB8D-4F82-9FE2-05F0BB89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AFE-83C3-4DEC-B69A-806F42A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8F0-E582-4FF1-BBB7-F706BEDB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68E-0369-4855-B7D8-C31E084F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AA1-705A-4CFD-BCED-DC628675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B31-349A-4491-B997-E4AAB6A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BAA-CD06-490D-ABB8-E5C7DFA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A99-2DED-430F-961E-1DF4314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55A-D107-4C8E-A2B1-8FDACDB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208-2309-459C-A15A-93A8151D6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31:02Z</dcterms:created>
  <dc:creator>ERIK</dc:creator>
  <dc:description/>
  <dc:language>en-US</dc:language>
  <cp:lastModifiedBy>ERIK</cp:lastModifiedBy>
  <dcterms:modified xsi:type="dcterms:W3CDTF">2011-06-19T09:33:33Z</dcterms:modified>
  <cp:revision>1</cp:revision>
  <dc:subject/>
  <dc:title>Geen diatitel</dc:title>
</cp:coreProperties>
</file>