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BA2-05D2-480D-8B25-6CED13B1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9A4D-0DE7-4D7E-B419-975102CE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7C80-6F78-4547-A01B-0E30AC1F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38C-DFAB-4181-A78D-B843FF89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92D-4B12-4225-A602-AD7F9A88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782-1FAE-4E7C-B22E-57BC400A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1BF5-15D6-4B0A-BC3F-4C880BF5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15BF-C04E-401E-A9D9-BA2F8D1D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A15-0356-4592-9800-D5F95CDB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D91-34CB-411B-90E0-6ED71A22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7C27-4E6C-408B-9341-D2CACB23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36D-AC9A-4FCD-A571-E5611528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4F05-077C-47C1-BB74-E66B31F9D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9:31:02Z</dcterms:created>
  <dc:creator>ERIK</dc:creator>
  <dc:description/>
  <dc:language>en-US</dc:language>
  <cp:lastModifiedBy>ERIK</cp:lastModifiedBy>
  <dcterms:modified xsi:type="dcterms:W3CDTF">2011-06-19T09:33:33Z</dcterms:modified>
  <cp:revision>1</cp:revision>
  <dc:subject/>
  <dc:title>Geen diatitel</dc:title>
</cp:coreProperties>
</file>