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F98-FC20-44C3-B1AA-1299A7C5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644-1C13-4918-95F8-C8E9619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EF3-2ADE-4CD6-963D-E8468ABC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EA4-EAC9-422E-8C91-5F06A5F1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061-8CB9-471B-A3B5-C81223CF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687-02DB-42CA-AB54-4354279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85F-7318-4A96-B468-DCFEFE18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EEF-9623-4080-B8A7-1FB9C95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D6E-F74B-440C-B73A-DE120041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DAD-7E34-4C89-88B4-14EDF07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927-718F-424B-9072-4BD7256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3E8-1810-4EA3-B7AE-3198B88F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46B7-36C6-4445-A486-C95FDB6BB7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5:36:47Z</dcterms:created>
  <dc:creator>ERIK</dc:creator>
  <dc:description/>
  <dc:language>en-US</dc:language>
  <cp:lastModifiedBy>Erik de Backer ( 1 )</cp:lastModifiedBy>
  <dcterms:modified xsi:type="dcterms:W3CDTF">2017-09-03T16:25:51Z</dcterms:modified>
  <cp:revision>1</cp:revision>
  <dc:subject/>
  <dc:title>Geen diatitel</dc:title>
</cp:coreProperties>
</file>