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9C1D-9F8D-4DE9-8184-D8DD8FAD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3FD9-FE90-474B-AA34-78525232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D3F0-9FFE-4586-86FB-50C3F9CD8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A912-55EE-4340-A448-D9B55527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B3F7-3223-4474-972A-7AE16E6F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D844-9AB2-4677-8606-C12BF29D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2E21-07AD-4EE1-B901-3D66D1F1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879E-09EC-4B53-A49D-470E1E97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76BA-F9D0-47CE-A105-960C98E9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DA3D-124D-47A6-9D6A-7AAA9137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6C81-5356-4D0B-BAA1-C3B4C359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1318-9F2C-4E8E-BD56-F0880CA9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C097-4AFF-4D59-A219-A1A418B73FC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5:36:47Z</dcterms:created>
  <dc:creator>ERIK</dc:creator>
  <dc:description/>
  <dc:language>en-US</dc:language>
  <cp:lastModifiedBy>Erik de Backer ( 1 )</cp:lastModifiedBy>
  <dcterms:modified xsi:type="dcterms:W3CDTF">2017-09-03T16:25:51Z</dcterms:modified>
  <cp:revision>1</cp:revision>
  <dc:subject/>
  <dc:title>Geen diatitel</dc:title>
</cp:coreProperties>
</file>