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8F5-77B2-439C-87E9-747E2BCB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079-E575-4C0A-A26D-CF9F293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68F-98C1-4544-98DE-46C2AC9C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889-5024-416A-B8CA-1132B188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DE6-7C55-488E-9162-60CD453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155-1743-4E73-8973-AABF9277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B54-CBCB-420B-AF97-A5177302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B17-1499-41A5-97AE-9B9AE52E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78E-6551-4BCF-804B-6781219A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A61-0C9C-46DD-8FA2-01A4ADC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5B2-DE27-47F8-8DC9-6B10EB0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E7F-8343-41C5-8D20-E3A1078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318A-82E5-43C8-82C1-AA5CEC7E8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40:45Z</dcterms:created>
  <dc:creator>ERIK</dc:creator>
  <dc:description/>
  <dc:language>en-US</dc:language>
  <cp:lastModifiedBy>ERIK</cp:lastModifiedBy>
  <dcterms:modified xsi:type="dcterms:W3CDTF">2011-06-10T15:44:31Z</dcterms:modified>
  <cp:revision>1</cp:revision>
  <dc:subject/>
  <dc:title>Geen diatitel</dc:title>
</cp:coreProperties>
</file>