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F3DD-1F2E-47DE-BA33-F8DFB60B2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8719-94AA-4C6B-BA3D-2A259B8AF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8E3F-BD87-4307-AFC5-AF5E56279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8F2E-3A55-412B-94EB-888B52C2F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A421-CA1A-44DF-AC2E-E2E128EB8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0CCB-54A9-4685-843A-531B1041D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C095-1543-44DB-92DC-C427A36F3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56FA-11D8-435F-9060-E0D629CD8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5849-D551-4702-9BBF-68D559C97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3135-E9CD-4E8F-B1BE-7164F038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E915-AF57-400D-A764-6F2E8249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E24C-ED1D-4EE8-AB18-50A2ED79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2DAF0-69D2-49AD-9388-E6C34F0072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0T15:40:45Z</dcterms:created>
  <dc:creator>ERIK</dc:creator>
  <dc:description/>
  <dc:language>en-US</dc:language>
  <cp:lastModifiedBy>ERIK</cp:lastModifiedBy>
  <dcterms:modified xsi:type="dcterms:W3CDTF">2011-06-10T15:44:31Z</dcterms:modified>
  <cp:revision>1</cp:revision>
  <dc:subject/>
  <dc:title>Geen diatitel</dc:title>
</cp:coreProperties>
</file>