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DB15-6CD4-4541-8C6D-8043479F7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650B-54CA-4C9A-AC97-3615C9254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A9D0-9A4D-4A82-93AF-B1E93D8CD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A363-E130-4433-A9C1-BF4DD42BB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8196-4FCE-4763-B848-2E78BB872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6B52-F26D-48FB-9A23-42E0164C3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1985-3EDF-4B9E-82E8-B14F425D0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DA46-1654-4D81-B0D0-CBFE77110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D3C9-3BCE-4D0E-BFE5-F5976C042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487B-A79E-41EE-8559-07F660D5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A74C-C68F-41A1-9188-2038B6FE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9A9F-E5E0-4FAA-AE84-E97A2F84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CD203-03A6-4F2C-9527-E0643C8FA8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0T15:33:14Z</dcterms:created>
  <dc:creator>ERIK</dc:creator>
  <dc:description/>
  <dc:language>en-US</dc:language>
  <cp:lastModifiedBy>ERIK</cp:lastModifiedBy>
  <dcterms:modified xsi:type="dcterms:W3CDTF">2011-06-10T15:36:37Z</dcterms:modified>
  <cp:revision>1</cp:revision>
  <dc:subject/>
  <dc:title>Geen diatitel</dc:title>
</cp:coreProperties>
</file>