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2A4-EE43-42E5-B7CA-07E47A5F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600-DF81-4331-869B-AF8B7B02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B768-5537-4A4A-A36F-659CA19D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72D-1CBF-4AA4-9977-94052199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E94-406F-4601-A409-1D444F85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068F-5281-4AC5-B032-B3A3F91A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2700-5B1B-4762-872D-59B663D1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48A-C53F-496A-9767-7E255090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D6AD-80CD-4558-BBC6-9D9C42F6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454-F8A7-433A-A8E9-69758F95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64F-B3C0-45C5-B8EB-EC988B1C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C81-C81E-476F-9858-9BA6241B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E76B-8116-4DBE-950D-A143013F3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5:33:14Z</dcterms:created>
  <dc:creator>ERIK</dc:creator>
  <dc:description/>
  <dc:language>en-US</dc:language>
  <cp:lastModifiedBy>ERIK</cp:lastModifiedBy>
  <dcterms:modified xsi:type="dcterms:W3CDTF">2011-06-10T15:36:37Z</dcterms:modified>
  <cp:revision>1</cp:revision>
  <dc:subject/>
  <dc:title>Geen diatitel</dc:title>
</cp:coreProperties>
</file>