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B536-5AEE-4153-B78D-2D964F80D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2BA8-CD5C-4A01-9013-68C6DF32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FA9C-30D3-44B1-B122-6ABC9AC34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D55B-9394-4118-8561-09D9C4FAB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AF54-CF2D-4313-9332-6EF55ED8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1DCF-E7C4-415E-B3EE-9C7C5EDB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F011-18E9-4F95-8793-2D73F959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61FF-364E-4DA1-9244-478432B0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CD45-9F46-4E3B-A1D9-15ADA7EF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F420-74D8-4193-A30B-F7FA8818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807F-1765-4C85-BF1D-781F5A42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CBCC-1207-4316-A085-63B8FE7A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4795-9619-4580-BB49-69C0FD978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5:29:48Z</dcterms:created>
  <dc:creator>ERIK</dc:creator>
  <dc:description/>
  <dc:language>en-US</dc:language>
  <cp:lastModifiedBy>ERIK</cp:lastModifiedBy>
  <dcterms:modified xsi:type="dcterms:W3CDTF">2011-06-10T15:33:02Z</dcterms:modified>
  <cp:revision>1</cp:revision>
  <dc:subject/>
  <dc:title>Geen diatitel</dc:title>
</cp:coreProperties>
</file>