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82C5-4D1C-4B96-89D8-18A4C7B9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2BA7-9ED2-4C34-82A8-CC4A132C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B2F4-1574-4EDB-9497-A0D6EBA5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861B-5882-4A2E-8EBF-A4DFC213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D922-5768-4504-B776-5EFB07E7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B46-0D32-43A7-A987-6614D581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D602-6D8B-4A73-9908-E1CA1130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444-CA64-4296-BC73-50BC5C86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E2E-E214-4E05-A0E3-80192922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5ED-75AD-459F-9972-6DDEADB9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2799-4962-4D67-A694-949EE4E0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920-87CF-4DFE-BFEA-1D21839F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E15D-4919-45FB-8F5F-8D94D0CB8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5:29:48Z</dcterms:created>
  <dc:creator>ERIK</dc:creator>
  <dc:description/>
  <dc:language>en-US</dc:language>
  <cp:lastModifiedBy>ERIK</cp:lastModifiedBy>
  <dcterms:modified xsi:type="dcterms:W3CDTF">2011-06-10T15:33:02Z</dcterms:modified>
  <cp:revision>1</cp:revision>
  <dc:subject/>
  <dc:title>Geen diatitel</dc:title>
</cp:coreProperties>
</file>