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230-E8A5-4C60-80EF-E45A745A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AA7-D3D8-40F2-AC8B-698FFB61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B11-7BE8-4C13-853C-F5BD414F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F42-91D4-45FF-8EC6-C3059CEF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F78-FD7D-4C1C-B98D-920D5E91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A13-48E4-499D-96AA-A463DBB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35D-C356-4A17-B1B3-1D866116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B72-F6E4-4D8E-9D12-75A8DB93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EE6-31A6-4750-8EBB-0BFE2EF4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364-93DD-4BA0-9064-569552D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0E6-1D1B-44F1-BF66-4E4CA9D0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0FF-05B4-4226-ABBD-30C7FCAB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D9E5-7B34-4004-AABC-85F8ABD17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04:18Z</dcterms:created>
  <dc:creator>ERIK</dc:creator>
  <dc:description/>
  <dc:language>en-US</dc:language>
  <cp:lastModifiedBy>ERIK</cp:lastModifiedBy>
  <dcterms:modified xsi:type="dcterms:W3CDTF">2011-06-10T15:08:19Z</dcterms:modified>
  <cp:revision>1</cp:revision>
  <dc:subject/>
  <dc:title>Geen diatitel</dc:title>
</cp:coreProperties>
</file>