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9CD-3AD2-4248-95C4-5E633AE1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137-5242-443D-A161-0A7BECE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E8C-96D3-4A03-8C55-B89FD839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72F-5091-45A9-B934-9269E623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868-B1AE-47EB-9B18-75778304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5C6-51B7-4C7D-BA56-3EB63533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2E2-5A02-40B9-B120-BD95FDD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FF3-86FB-401C-A8F3-01C7368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032-DB57-47E1-A2C6-BF13DE81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6EF-ED40-4853-B219-17FA911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E2A-96AF-40BA-8D43-A56C3FDE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8D9-A4EB-47EB-851C-574F187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E9B-EAB0-4515-814C-E6C1F7567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04:18Z</dcterms:created>
  <dc:creator>ERIK</dc:creator>
  <dc:description/>
  <dc:language>en-US</dc:language>
  <cp:lastModifiedBy>ERIK</cp:lastModifiedBy>
  <dcterms:modified xsi:type="dcterms:W3CDTF">2011-06-10T15:08:19Z</dcterms:modified>
  <cp:revision>1</cp:revision>
  <dc:subject/>
  <dc:title>Geen diatitel</dc:title>
</cp:coreProperties>
</file>