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854-2E31-4690-B9AC-D6E6A7B8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33B-0F64-40BA-8F1D-C2A6522A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EEA-3967-4179-9B19-959DEF51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EBC-DB34-4244-8629-D347C0E5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97B-439B-49D2-910E-8728C252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732-5D9D-49E6-B43D-A675EC98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A3B-8A73-492A-991A-01CAF0C6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31F-7313-44FE-AC4C-B65660D7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53C-889C-4AB4-84D1-B2C18D6B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353-E009-42E7-A2CA-2A5AF5AA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A99-CCF6-4A14-824B-5D8C3A9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149-3E9F-488C-A774-0A61E339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C014-2BCC-456B-A1FD-FE6C7D3DD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00:02Z</dcterms:created>
  <dc:creator>ERIK</dc:creator>
  <dc:description/>
  <dc:language>en-US</dc:language>
  <cp:lastModifiedBy>ERIK</cp:lastModifiedBy>
  <dcterms:modified xsi:type="dcterms:W3CDTF">2011-06-10T15:04:10Z</dcterms:modified>
  <cp:revision>1</cp:revision>
  <dc:subject/>
  <dc:title>Geen diatitel</dc:title>
</cp:coreProperties>
</file>