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AA4-983F-48AA-871E-9BF03276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BA2-2C57-407E-AB8C-2C4E2AD0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C99-CC37-479F-9018-5D7F41DF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579-ED92-4092-84B9-E0DB6545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D13-538F-4813-A084-390CDB1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B45-B1DC-4F0D-8521-B9727F3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B06-0361-47F9-A962-9C3967A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C4C-965C-4421-B7F1-0E269F9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5C5-E6BB-458C-968E-61257163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B0F-95F5-4823-8592-AAAAAB3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ED0-DE57-4649-9A56-C9F1824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CA0-DF64-4BD2-B107-7A0F76B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B04-F95C-4CA2-B019-CCC6E2A5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00:02Z</dcterms:created>
  <dc:creator>ERIK</dc:creator>
  <dc:description/>
  <dc:language>en-US</dc:language>
  <cp:lastModifiedBy>ERIK</cp:lastModifiedBy>
  <dcterms:modified xsi:type="dcterms:W3CDTF">2011-06-10T15:04:10Z</dcterms:modified>
  <cp:revision>1</cp:revision>
  <dc:subject/>
  <dc:title>Geen diatitel</dc:title>
</cp:coreProperties>
</file>