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922D-4454-455C-AD52-AF16724C2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9E04-6545-4C61-ACF5-C53EA3B0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A0BD-FD6E-4ACC-ADDC-9EA9FE014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4816-6E02-46F0-A678-F03FF1845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3CF7-6A1B-4536-9F29-E34DD7BF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5EA7-89D3-42D9-B783-FC1CEA84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91B4-8DF7-4AFD-B395-17F3CD2B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32E1-9F85-4487-B469-00314DE3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0A61-A093-42B0-9549-E2DDDD87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DC5F-054D-485A-85D7-E4879204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D4C5-E7EF-4443-BC4A-E4A156C5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37E1-78A9-40E3-B036-D813E101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A52F-A223-4BDE-BDF8-18F4DF468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1048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4:55:39Z</dcterms:created>
  <dc:creator>ERIK</dc:creator>
  <dc:description/>
  <dc:language>en-US</dc:language>
  <cp:lastModifiedBy>ERIK</cp:lastModifiedBy>
  <dcterms:modified xsi:type="dcterms:W3CDTF">2011-06-10T14:59:52Z</dcterms:modified>
  <cp:revision>1</cp:revision>
  <dc:subject/>
  <dc:title>Geen diatitel</dc:title>
</cp:coreProperties>
</file>