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DE3-5094-4DF6-85CE-EF60BDEF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443-3B76-4D64-BEEC-BF5C7346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EA1-8CF3-4C5D-9ABC-E39DD96B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3E9-98BE-411F-A25B-9A891DA8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078-1F67-4CF7-AB15-BA776432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E5E-B1E1-4C0B-B038-BBED45F9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054-AF31-4537-AAB0-83CA0CF4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B5F-5876-4CF9-BE5E-BD9DD425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942-068A-4523-96EA-6E09518C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63D-2E7B-45F1-9413-9500AA3F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F37-D8A0-4F5C-8F6B-CD8E746F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DBB-349A-4C3C-A969-9B3470C0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77DB-A7AB-414D-B6BD-8F8C1EC6D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048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4:55:39Z</dcterms:created>
  <dc:creator>ERIK</dc:creator>
  <dc:description/>
  <dc:language>en-US</dc:language>
  <cp:lastModifiedBy>ERIK</cp:lastModifiedBy>
  <dcterms:modified xsi:type="dcterms:W3CDTF">2011-06-10T14:59:52Z</dcterms:modified>
  <cp:revision>1</cp:revision>
  <dc:subject/>
  <dc:title>Geen diatitel</dc:title>
</cp:coreProperties>
</file>