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297-0DD8-4455-A6E3-93569613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9BC-BB59-4A4F-8E49-814FB81D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B3D-3D38-4600-BD65-21A0CC46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1AF-DB3F-43CA-A402-2F53726B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5C3-A69A-44BB-B431-56FE6581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546-D0CB-4B57-B37E-8DD99A2C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ADC-C29C-4DB0-B98E-A9E773C5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768-91A1-4DCB-B23D-CC49DFB7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ABE-4405-456D-88E2-5C23F89D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09A-9369-4640-9B0C-272B79C2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DDA-06D5-4BC5-93E0-B1BA208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7A9-166A-4A11-AE59-0B553CF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385A-4DE1-479A-B75F-BE8316D36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4:50:01Z</dcterms:created>
  <dc:creator>ERIK</dc:creator>
  <dc:description/>
  <dc:language>en-US</dc:language>
  <cp:lastModifiedBy>ERIK</cp:lastModifiedBy>
  <dcterms:modified xsi:type="dcterms:W3CDTF">2011-06-10T14:54:59Z</dcterms:modified>
  <cp:revision>1</cp:revision>
  <dc:subject/>
  <dc:title>Geen diatitel</dc:title>
</cp:coreProperties>
</file>