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9EF-4501-4580-94F8-1EEC28E1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588-602A-4F2D-895B-70CD2148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C2F-808E-4753-86C0-A79190D1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0AE-2A66-44C6-94F3-17D7B2C7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8A7-9F9D-4EBE-BF99-DBA8F0BD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6AA-9414-49BD-81C4-60F29726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2B3-8995-45EE-A79C-DA4A1AE2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3C7-1BB4-474D-AF63-52421EAD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E8D-21F6-43C4-97D4-C227C099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002-DBF7-4397-9991-08D50EC9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F3E-03A9-4EE4-B2B3-D966E3A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AC2-1BAA-44EB-AA9E-D63D900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9816-AC94-4C5E-BEFD-AAD0FFF38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4:50:01Z</dcterms:created>
  <dc:creator>ERIK</dc:creator>
  <dc:description/>
  <dc:language>en-US</dc:language>
  <cp:lastModifiedBy>ERIK</cp:lastModifiedBy>
  <dcterms:modified xsi:type="dcterms:W3CDTF">2011-06-10T14:54:59Z</dcterms:modified>
  <cp:revision>1</cp:revision>
  <dc:subject/>
  <dc:title>Geen diatitel</dc:title>
</cp:coreProperties>
</file>