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681-E37F-4E56-B576-609B28ED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317-98DA-4331-A24F-7CF8CE18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DF3-5415-4679-9842-AA1560B7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1A2-19E8-411F-A947-514693AB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EEA-8FE0-465B-8231-81FD835F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978-DF76-47FA-9FBD-F7E41CB5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DB9-9862-4A7C-AC41-8C2104B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78F-2964-4067-A53F-117978BE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DB7-1BFF-4F73-8007-0C7F7B5F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1B7-2305-4005-A329-A7C6B91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306-DC8B-494D-B682-3EA24E6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9C4-779C-4073-A829-C227C27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4153-E59E-42A9-96A0-8EA9BEA58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9:43:04Z</dcterms:created>
  <dc:creator>ERIK</dc:creator>
  <dc:description/>
  <dc:language>en-US</dc:language>
  <cp:lastModifiedBy>ERIK</cp:lastModifiedBy>
  <dcterms:modified xsi:type="dcterms:W3CDTF">2011-05-27T09:47:09Z</dcterms:modified>
  <cp:revision>1</cp:revision>
  <dc:subject/>
  <dc:title>Geen diatitel</dc:title>
</cp:coreProperties>
</file>