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04-E2FC-4ABF-A6BE-19CFB2AB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220-C222-4893-B901-BFD7BD69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783-3B4F-46AB-BA65-6A75772C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FCE-F370-4765-A7CF-174874B0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394-83AC-4F33-8281-82922FB8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369-8119-4D80-82DB-8864C984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59F-F82F-4F54-80D2-42983C2F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1E9-3A72-4A89-8F0F-9310F89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36C-ED72-4DEB-9C90-4C9C3F6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733-3C67-49B3-AFB6-6D7F664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DD6-C0DF-4C60-8BDF-7C7B940A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C9D-A889-4F99-88F0-C668CB7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6CC-821B-4536-B7DB-A57F588AA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9:43:04Z</dcterms:created>
  <dc:creator>ERIK</dc:creator>
  <dc:description/>
  <dc:language>en-US</dc:language>
  <cp:lastModifiedBy>ERIK</cp:lastModifiedBy>
  <dcterms:modified xsi:type="dcterms:W3CDTF">2011-05-27T09:47:09Z</dcterms:modified>
  <cp:revision>1</cp:revision>
  <dc:subject/>
  <dc:title>Geen diatitel</dc:title>
</cp:coreProperties>
</file>