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12C-A4DA-462F-B361-DBCB26A2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706-50AF-47C9-A736-8E644082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D63-8B9C-446C-865F-88CDDACA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FF5-9F68-4802-A7E7-CF0CAB7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9F0-9DC0-411E-AF60-FF0B23C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686-781B-462B-B5AD-5C68C426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181-54DC-4628-ABFF-7B2D61D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B3C-AC45-4A07-B6A9-DE6CEB47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454-8486-48E1-B6BD-CBAAFCD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191-9393-495D-9640-56B3AB6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B8F-5AFF-414E-A218-0B2B290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575-5945-4CC9-B19B-31D6BD0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3BD9-9A8C-4BC6-A774-247446B23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37:19Z</dcterms:created>
  <dc:creator>ERIK</dc:creator>
  <dc:description/>
  <dc:language>en-US</dc:language>
  <cp:lastModifiedBy>ERIK</cp:lastModifiedBy>
  <dcterms:modified xsi:type="dcterms:W3CDTF">2011-05-27T09:42:28Z</dcterms:modified>
  <cp:revision>1</cp:revision>
  <dc:subject/>
  <dc:title>Geen diatitel</dc:title>
</cp:coreProperties>
</file>