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313-D32C-437F-857A-4D7BCDAD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22E-3168-40CB-BC1D-F24DF74A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9B2-7873-48D4-BEC1-8A03575A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FCF-98FC-46F1-8ECC-C5809A79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F3C-C0D7-4ECD-AC42-E235758F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1ED-9667-46A6-B8E6-58E1B173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0CF-AB26-4EE0-B399-04027C62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8A0-57BE-4C91-AD08-B6FB5C6B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95F-3001-4AC6-8813-237FCF75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213-A352-4A90-B1BA-37778823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6BA-5CAB-4F10-9E2C-2CA89880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D83-7B02-407E-ADD4-0FFCF98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6939-9670-45B3-8E09-FE9775C68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9:37:19Z</dcterms:created>
  <dc:creator>ERIK</dc:creator>
  <dc:description/>
  <dc:language>en-US</dc:language>
  <cp:lastModifiedBy>ERIK</cp:lastModifiedBy>
  <dcterms:modified xsi:type="dcterms:W3CDTF">2011-05-27T09:42:28Z</dcterms:modified>
  <cp:revision>1</cp:revision>
  <dc:subject/>
  <dc:title>Geen diatitel</dc:title>
</cp:coreProperties>
</file>