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0F9-E46D-4B9B-8AC0-2454E4AF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80D1-1DCE-4504-96EE-C41461CE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445B-A72E-4376-89DC-2DF7BBCF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96B-A271-4A3D-BD59-CEAFB51B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B87-D593-46CB-93BA-3E1D693D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5F1-D7F7-424E-B6C4-839AD78C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F161-03D0-43B4-97AE-5718AA80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0A57-004F-4FC2-B210-980F6C49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52EE-5C20-433F-BD36-FC966DF3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1EC7-B2B0-4ABE-A80F-585E4766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802-90AB-4AA6-B00A-3C0EB3C0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BD5-F592-4EAD-A8CA-271A5CC6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9945-55DC-4123-BED7-AADC73615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68817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13:05:32Z</dcterms:created>
  <dc:creator>ERIK</dc:creator>
  <dc:description/>
  <dc:language>en-US</dc:language>
  <cp:lastModifiedBy>ERIK</cp:lastModifiedBy>
  <dcterms:modified xsi:type="dcterms:W3CDTF">2011-05-27T13:07:11Z</dcterms:modified>
  <cp:revision>1</cp:revision>
  <dc:subject/>
  <dc:title>Geen diatitel</dc:title>
</cp:coreProperties>
</file>