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CE70-C0FA-4CA2-B51E-731CD560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D4FA-70AA-46D0-88D2-FDFF6D9E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2FF-BE19-4285-8822-5127C9F2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DB39-1A06-45D4-8261-BC0D23C9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183D-3F1D-49BF-8A6C-B34CAB57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9314-A0F9-4A25-8583-47E830FB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18D1-1656-41EF-A989-BDDAE5D2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A2DE-44B2-4C73-B489-A74DB760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47B9-48F3-4470-BBF8-F46F9455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D25-C72F-4FFE-B627-3B65AAB5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595F-2054-42C2-808E-EEEC6EC5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432-E637-440F-BFE6-CCB6E86B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4E61-E5BD-4A22-BA4B-0A1C5888C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3760" y="0"/>
            <a:ext cx="68817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13:05:32Z</dcterms:created>
  <dc:creator>ERIK</dc:creator>
  <dc:description/>
  <dc:language>en-US</dc:language>
  <cp:lastModifiedBy>ERIK</cp:lastModifiedBy>
  <dcterms:modified xsi:type="dcterms:W3CDTF">2011-05-27T13:07:11Z</dcterms:modified>
  <cp:revision>1</cp:revision>
  <dc:subject/>
  <dc:title>Geen diatitel</dc:title>
</cp:coreProperties>
</file>