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227-00BC-4D36-9EC0-3AF904A5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6786-9203-45A9-A8B6-2B46C5ED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40A8-04A7-4373-A622-46CDEDE3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4E7E-987F-40DF-9F4F-8A3848EE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BCD2-401D-4622-B710-0EB81CF8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720F-D26D-48EB-A275-549D65D9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98FB-2DB9-4377-BA02-70D644BE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437-987B-4C4C-BD07-1C017B41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51C2-6BBB-4074-9337-147A8545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7723-6D68-487D-B296-7686B5B8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F864-E9E2-4649-8082-0D7410F1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E64-A487-4D85-9781-BED4551B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1901-8F05-4741-AE6A-1855471EC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5560" y="0"/>
            <a:ext cx="68835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09:17:24Z</dcterms:created>
  <dc:creator>ERIK</dc:creator>
  <dc:description/>
  <dc:language>en-US</dc:language>
  <cp:lastModifiedBy>ERIK</cp:lastModifiedBy>
  <dcterms:modified xsi:type="dcterms:W3CDTF">2011-05-27T09:21:59Z</dcterms:modified>
  <cp:revision>1</cp:revision>
  <dc:subject/>
  <dc:title>Geen diatitel</dc:title>
</cp:coreProperties>
</file>