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9DBE-358F-4596-B0C7-D5393A0AC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9313-5B0C-47D4-BF40-6354E747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CAC4-FAD9-4F7B-B1E2-3F868A77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DC4F-E160-471C-89F7-98CA6117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6C56-00E0-41EF-9F2E-767E98D5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0249-BB1A-4CA3-8436-FE1E9E98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FEF0-FA9B-4D6E-8411-456F7DDF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2136-1903-4965-B400-3110F25B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35ED-19FC-4637-BCA4-B60DD2EA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EAE0-5B44-400E-BD89-6E6554A9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F1AB-26FE-49F2-ACF7-9A9522EC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CAAF-F3F8-41C3-BC77-32BB7DF9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6404-53B1-496F-B289-B672702A4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5560" y="0"/>
            <a:ext cx="688356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7T09:17:24Z</dcterms:created>
  <dc:creator>ERIK</dc:creator>
  <dc:description/>
  <dc:language>en-US</dc:language>
  <cp:lastModifiedBy>ERIK</cp:lastModifiedBy>
  <dcterms:modified xsi:type="dcterms:W3CDTF">2011-05-27T09:21:59Z</dcterms:modified>
  <cp:revision>1</cp:revision>
  <dc:subject/>
  <dc:title>Geen diatitel</dc:title>
</cp:coreProperties>
</file>