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6C84-66F0-4CFE-90F8-9A2E76AE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7CA7-36B7-4F03-BF5E-30DA179C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FB7B-B8E5-4C1C-97BF-5A3A9C13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A00D-D41F-465D-9023-F6DC6ACE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1F24-4829-4955-BC01-7F17843D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CA1A-0E03-4039-B63C-6362C5B1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1EF0-B5F9-416C-AFF8-22B0D8ED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550C-2387-45D2-8FF4-50387B3E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0580-F589-4457-B90A-72435DE1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317-BCEE-446B-9D07-A686DAEB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B7CF-2863-4709-9288-2C2A38FD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994B-9AFF-424A-AE70-1DF44D55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C4CE-AAA8-4BB7-85A1-437B0685F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8:32:36Z</dcterms:created>
  <dc:creator>ERIK</dc:creator>
  <dc:description/>
  <dc:language>en-US</dc:language>
  <cp:lastModifiedBy>ERIK</cp:lastModifiedBy>
  <dcterms:modified xsi:type="dcterms:W3CDTF">2011-05-26T08:37:18Z</dcterms:modified>
  <cp:revision>1</cp:revision>
  <dc:subject/>
  <dc:title>Geen diatitel</dc:title>
</cp:coreProperties>
</file>