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0407-0DCE-45E4-B4E2-F091279D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41F2-6A4E-45AF-B2F4-8C9D51C4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1318-FF49-4216-A519-6F00BD3A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21F8-7089-47DF-9955-EBF7FEEE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6660-E13F-4444-9412-47C4DE4F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A938-82AD-4DB7-A472-317E3CA3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2013-EA7B-4213-B32F-4DA25480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56F7-6445-4603-9CB3-0A051C6B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7A56-DC82-41C4-B0A9-2681A96E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EFE3-BEB4-43DC-8B84-12A9962D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9B35-A57D-4143-A789-172BEB5F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1CC7-612D-44E1-845B-1274BB58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4AB5-59AE-47AB-8BF7-17885747E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8:32:36Z</dcterms:created>
  <dc:creator>ERIK</dc:creator>
  <dc:description/>
  <dc:language>en-US</dc:language>
  <cp:lastModifiedBy>ERIK</cp:lastModifiedBy>
  <dcterms:modified xsi:type="dcterms:W3CDTF">2011-05-26T08:37:18Z</dcterms:modified>
  <cp:revision>1</cp:revision>
  <dc:subject/>
  <dc:title>Geen diatitel</dc:title>
</cp:coreProperties>
</file>