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116-08F0-4646-B295-77C0A991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5BD-C4AC-40CA-953B-3C645D6C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C0B-4BBA-42E5-8A16-65180434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D4D-E69E-42C1-B016-FAF26EB2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77F-6A67-4D7A-AA35-CDCC18FC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22A-A4EB-4544-98B2-C2151B9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256-2AD5-4D26-8FA7-F6379B3D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B48-56B8-4EC0-AF49-6F079AF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C2B-9D7B-4881-BD34-FD26E156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165-97E5-4C7F-9C79-33C6E4E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87C-3A59-4917-93FC-F2734049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EB1-1DEC-4B8F-A8E4-C9CB184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B60-73A0-4FAE-91ED-FC63715C9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7320" y="0"/>
            <a:ext cx="701532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27:38Z</dcterms:created>
  <dc:creator>ERIK</dc:creator>
  <dc:description/>
  <dc:language>en-US</dc:language>
  <cp:lastModifiedBy>ERIK</cp:lastModifiedBy>
  <dcterms:modified xsi:type="dcterms:W3CDTF">2011-05-26T08:32:28Z</dcterms:modified>
  <cp:revision>1</cp:revision>
  <dc:subject/>
  <dc:title>Geen diatitel</dc:title>
</cp:coreProperties>
</file>