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C87-A0E4-46AD-B4CE-5EE4A468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0B0-09FF-4DAC-BA3F-771EE61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11B-4BA5-414C-BA82-EEE30C4B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229-F2D7-4D5D-B23C-47BD0134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DC4-32E1-4705-AE46-9EA1808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866-8E64-41BE-AE1F-1DA88C7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DEF-10F0-4EB2-B95F-C870087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385-8165-482B-8B84-FF474DA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044-F1F8-488E-A143-7525E2B9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A6C-257D-4CCA-9BA1-F23C366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1BD-A1B0-4923-8C08-9B17EC7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492-2993-43B8-86BF-7EAC7DB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50E-6F84-4F1F-AF27-7584DD70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7320" y="0"/>
            <a:ext cx="70153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27:38Z</dcterms:created>
  <dc:creator>ERIK</dc:creator>
  <dc:description/>
  <dc:language>en-US</dc:language>
  <cp:lastModifiedBy>ERIK</cp:lastModifiedBy>
  <dcterms:modified xsi:type="dcterms:W3CDTF">2011-05-26T08:32:28Z</dcterms:modified>
  <cp:revision>1</cp:revision>
  <dc:subject/>
  <dc:title>Geen diatitel</dc:title>
</cp:coreProperties>
</file>