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306E-C868-4B94-8DEF-0493725E6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C455-46A1-46AD-9639-5A91C9017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04AB-E827-4A8B-8BEA-16D0F2455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C8D8-4BFC-4C9A-82B6-9CF6D5BE3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8A73-7C20-437B-B7F2-12C457D1C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9199-8A8D-48E0-8E7A-8C6C3EAB3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DE37-45B8-498E-A8B2-62186CE04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195D-9706-4F24-AAC1-82BCC1192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4828-9D0A-4B9B-B429-63FE5506E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0254-E707-4497-BF97-A2E75C51B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BF78-BC05-4855-9700-005F7498E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06B1-9B01-44B9-A49A-60503CC3A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C3C13-6DA7-4B66-9CF6-ED0F7AA074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6T08:22:10Z</dcterms:created>
  <dc:creator>ERIK</dc:creator>
  <dc:description/>
  <dc:language>en-US</dc:language>
  <cp:lastModifiedBy>ERIK</cp:lastModifiedBy>
  <dcterms:modified xsi:type="dcterms:W3CDTF">2011-05-26T08:27:28Z</dcterms:modified>
  <cp:revision>1</cp:revision>
  <dc:subject/>
  <dc:title>Geen diatitel</dc:title>
</cp:coreProperties>
</file>