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4C1-3312-4930-ACE0-CAC821F8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B15-7C0A-496B-A7F5-ACFCA0BB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1D93-3208-4000-8A35-CC9F68A7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EB4D-8291-4191-AF6D-1CC70814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3DDE-C5A8-43EB-84E9-35B7FC5C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336D-E57F-432C-B980-B3C367CC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1C6-4D7A-4CEB-A5AD-2E53077B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C538-ED6C-4324-B79C-17B47BD8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4B7-6E60-4D5B-8AE1-D89A0708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C0E4-ADF1-4FB5-BEF1-AD06FD6B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C275-82FE-4B1A-A550-F1C080E1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5545-77B6-47C3-B199-E0A32875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BE71-6DA4-419D-8345-D6E065BF7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8:22:10Z</dcterms:created>
  <dc:creator>ERIK</dc:creator>
  <dc:description/>
  <dc:language>en-US</dc:language>
  <cp:lastModifiedBy>ERIK</cp:lastModifiedBy>
  <dcterms:modified xsi:type="dcterms:W3CDTF">2011-05-26T08:27:28Z</dcterms:modified>
  <cp:revision>1</cp:revision>
  <dc:subject/>
  <dc:title>Geen diatitel</dc:title>
</cp:coreProperties>
</file>