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914-BEA0-4BDD-8514-512C81DB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A77-6A17-46C0-8502-0FBD0389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5DB-9FB5-44D9-B106-7D58D19D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A5F-D94E-4E01-A569-3193DDE8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308-59BD-4D8E-A83D-A7995827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960-8698-4F1A-AB5D-623142EB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AF5-67A8-4B79-AD27-D39343C7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DFE-FD4B-4024-B1AC-82E8A473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25E-EE5D-4774-836E-FBA1E511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EB4-DE94-4CEA-BA0D-F7F53B8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526-28D3-4907-A365-1966F9FC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C9A-5F03-4DEB-AB0B-807431F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73A7-EEE1-41DB-AC3B-EADF84785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17:04Z</dcterms:created>
  <dc:creator>ERIK</dc:creator>
  <dc:description/>
  <dc:language>en-US</dc:language>
  <cp:lastModifiedBy>ERIK</cp:lastModifiedBy>
  <dcterms:modified xsi:type="dcterms:W3CDTF">2011-05-26T08:22:02Z</dcterms:modified>
  <cp:revision>1</cp:revision>
  <dc:subject/>
  <dc:title>Geen diatitel</dc:title>
</cp:coreProperties>
</file>