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82E-3A5D-4BDC-926D-A874B3B7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C89-94FF-4ABD-9E6B-1E4BED46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EB7-3061-4C09-90C0-ADFCD475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1AB-ADC2-4F78-962B-E496057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89B-2F35-4161-B853-FAC6F0BC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BA7-1A6D-4618-BC01-98A96728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AF1-7614-4293-978A-E40BE8E0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5D6-6988-485C-BFC1-4158E369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26C-D24F-46EB-982C-AF31A32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549-D3C7-4A94-B857-D6AEE65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A0C-2E9A-4C72-BBC0-8ACB97A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A6C-A971-41BF-8E1F-BD4EEDA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799-1791-48AF-8F9F-535A8764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17:04Z</dcterms:created>
  <dc:creator>ERIK</dc:creator>
  <dc:description/>
  <dc:language>en-US</dc:language>
  <cp:lastModifiedBy>ERIK</cp:lastModifiedBy>
  <dcterms:modified xsi:type="dcterms:W3CDTF">2011-05-26T08:22:02Z</dcterms:modified>
  <cp:revision>1</cp:revision>
  <dc:subject/>
  <dc:title>Geen diatitel</dc:title>
</cp:coreProperties>
</file>