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E190-47EB-4698-9A3C-9D34F76E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45C-8E0A-4AC4-B41A-D1C182ED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8CB7-C947-4168-ADBA-44DD9071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4198-13D3-4B05-8D07-17E8308A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82AC-E804-4673-B89B-A9AC6422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AB20-C3DC-41DE-9ACE-5F0F9214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FDC6-65BB-45BC-94D6-32BDDEBC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B878-2A0D-45A3-9305-A4F3A48D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506D-671C-4A2B-94B4-CF46AFCE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0BFB-5268-4E00-B859-D6129A6A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51AB-585C-418E-B7B0-7F467526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5C3-FD53-4134-A5C0-CE424A21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DADA-74E4-4A71-AEAA-EF51094EB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8:10:49Z</dcterms:created>
  <dc:creator>ERIK</dc:creator>
  <dc:description/>
  <dc:language>en-US</dc:language>
  <cp:lastModifiedBy>ERIK</cp:lastModifiedBy>
  <dcterms:modified xsi:type="dcterms:W3CDTF">2011-05-26T08:16:43Z</dcterms:modified>
  <cp:revision>1</cp:revision>
  <dc:subject/>
  <dc:title>Geen diatitel</dc:title>
</cp:coreProperties>
</file>