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9F10-A532-4BB5-A83B-F691A725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62FE-7DDC-4EDC-ACE9-CD7A8383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EBC-02B6-416E-A209-D6C557E4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79B-FBFC-4DF4-9D23-45954E6B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9349-CE25-43BE-9197-7F8F677D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9F56-DCD0-417D-B461-1BCFB9AB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C80D-6F0E-448B-A440-CDC91F5A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A73-14E4-405D-8D66-8D427225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AF7-AD5E-4011-A117-230267B1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ED4-BB41-4CFA-B0CD-12421DC9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D86F-2216-4055-A157-39A02249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71D-3EFE-4B8D-95B2-1F59D6B4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5218-9330-458E-8390-0E41CA5B7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8:10:49Z</dcterms:created>
  <dc:creator>ERIK</dc:creator>
  <dc:description/>
  <dc:language>en-US</dc:language>
  <cp:lastModifiedBy>ERIK</cp:lastModifiedBy>
  <dcterms:modified xsi:type="dcterms:W3CDTF">2011-05-26T08:16:43Z</dcterms:modified>
  <cp:revision>1</cp:revision>
  <dc:subject/>
  <dc:title>Geen diatitel</dc:title>
</cp:coreProperties>
</file>