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2413-9213-4B10-A5E5-32AB87C47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7A42-3237-4252-83A0-F744E644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9E19-38CC-4379-B30E-74F0D3E83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E8D4-42F6-452E-B030-5A3B6CC76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0968-C879-460D-B9ED-CDC42112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0D60-8147-473B-95DA-77A10A8D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BD72-CE6E-464F-827B-175641B0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25ED-82DA-4DA2-ACEA-07A435D2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E57E-C524-4797-BE7B-F03013F8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FD20-DA83-4ACC-B9AF-11229A94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CDE3-E59A-45D0-9862-C8BE0662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D3E3-C660-48F8-8AA2-11BE1DA6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7125-5EEB-4643-8B69-32309C92E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08:06:05Z</dcterms:created>
  <dc:creator>ERIK</dc:creator>
  <dc:description/>
  <dc:language>en-US</dc:language>
  <cp:lastModifiedBy>ERIK</cp:lastModifiedBy>
  <dcterms:modified xsi:type="dcterms:W3CDTF">2011-05-26T08:10:42Z</dcterms:modified>
  <cp:revision>1</cp:revision>
  <dc:subject/>
  <dc:title>Geen diatitel</dc:title>
</cp:coreProperties>
</file>