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6AD-64D7-48D9-A320-5CE7BE0F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E67-938A-4599-9F70-0EF25BB4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36B-A7EB-49F5-B51E-7666C5A8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E54-CDE6-45A8-AEF7-7F8DA46A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FA3-ACBA-4A31-91BF-2F72EF74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484-ADC7-49E1-AAE5-71C4E14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702-76B6-40D2-8937-89C7E14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CE9-4D58-4E41-AC03-58E364E5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ABD-9D07-4A1B-B647-F02D490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740-D223-45E0-92BD-F91D7C8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5C4-9141-4D21-BCCE-73EA2A4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35B-DA19-4C35-B8FE-2174EF1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FFF-B66C-41BB-8B56-42D4B01A8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8:06:05Z</dcterms:created>
  <dc:creator>ERIK</dc:creator>
  <dc:description/>
  <dc:language>en-US</dc:language>
  <cp:lastModifiedBy>ERIK</cp:lastModifiedBy>
  <dcterms:modified xsi:type="dcterms:W3CDTF">2011-05-26T08:10:42Z</dcterms:modified>
  <cp:revision>1</cp:revision>
  <dc:subject/>
  <dc:title>Geen diatitel</dc:title>
</cp:coreProperties>
</file>