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B91-41B8-47D2-9038-5935B6DF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A6D-55F2-44E1-974D-9B945EEB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F0B-D10F-4C7F-A146-42E79A3B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3E1-A7AF-4A29-A6BD-99BEBA4D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AE6-56EE-4F72-A21E-6CCB7B7D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BE3-6004-450F-AAC4-CE5A307B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120-F202-4CEA-9175-5E484CA0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65F-F231-49CF-9F5D-91A31B6B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644-8EC8-458C-A836-5EF50A4D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2C0-CE9E-4F1A-A1A0-F1ED908E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580-5BF3-460E-9BC5-344CBE78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BAC-A60C-421E-B086-66C5A803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5756-B34F-43DE-B6E5-119522FE5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7:59:09Z</dcterms:created>
  <dc:creator>ERIK</dc:creator>
  <dc:description/>
  <dc:language>en-US</dc:language>
  <cp:lastModifiedBy>ERIK</cp:lastModifiedBy>
  <dcterms:modified xsi:type="dcterms:W3CDTF">2011-05-26T08:05:42Z</dcterms:modified>
  <cp:revision>1</cp:revision>
  <dc:subject/>
  <dc:title>Geen diatitel</dc:title>
</cp:coreProperties>
</file>