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7FAE-CC68-47BE-AF9D-47BC406D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451C-B8DB-4A6F-A2D8-AD7D2876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6988-5263-4D0C-81DC-555D0B47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8428-34A3-42E8-9D00-6391824E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DD28-53E7-4D33-BA61-B55BFBA7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FC31-1E07-4D4D-90D4-A988CE0A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BEF1-DB69-428A-8B90-430AAB53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0C1E-475B-4605-8FE5-55B9DE78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E96A-9CFD-4AC8-89F3-D253C9AA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B73C-32A1-4634-8F9A-00ABAE90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089B-9D5C-48A6-8823-FE332C65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7E11-A94F-4C4A-92CB-BB7F8CED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A753-C5D4-447A-A5F9-641B68FB0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7:59:09Z</dcterms:created>
  <dc:creator>ERIK</dc:creator>
  <dc:description/>
  <dc:language>en-US</dc:language>
  <cp:lastModifiedBy>ERIK</cp:lastModifiedBy>
  <dcterms:modified xsi:type="dcterms:W3CDTF">2011-05-26T08:05:42Z</dcterms:modified>
  <cp:revision>1</cp:revision>
  <dc:subject/>
  <dc:title>Geen diatitel</dc:title>
</cp:coreProperties>
</file>