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E0C-8D31-4C7A-9428-3865EF00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C57-A797-428B-98EB-2FBD3993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18A-B636-4EF9-9407-201B237B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AFA-298C-45A0-BB60-1983E775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318-60AB-4C4D-8B2E-92C9D35A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D76-FA7B-4543-8250-ED25AED6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34D-17F4-4E8B-96B0-EA0FB6D9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AE7-35B0-4CC9-ADD5-3774C116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19A-55B5-48BF-A76B-74B1C14F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BEF-2EFB-44D8-A4D4-9A46D5B1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0D7-BA7F-45D9-9B4F-0625A53F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79A-ACCF-457B-95E8-32736331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B375-E689-4045-9CC7-F52801C3B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7:53:55Z</dcterms:created>
  <dc:creator>ERIK</dc:creator>
  <dc:description/>
  <dc:language>en-US</dc:language>
  <cp:lastModifiedBy>ERIK</cp:lastModifiedBy>
  <dcterms:modified xsi:type="dcterms:W3CDTF">2011-05-26T07:58:56Z</dcterms:modified>
  <cp:revision>1</cp:revision>
  <dc:subject/>
  <dc:title>Geen diatitel</dc:title>
</cp:coreProperties>
</file>