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076-5082-41DB-83F9-3D7E69DE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B6F-4F55-4C90-ADDA-F9852DF9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923-673A-44E0-879B-F2A1FDA3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A71-8D90-4515-BE36-19907369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DBD-781D-4073-ACA0-62F584EC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5E5-920E-44ED-BBCA-FFB15FEF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8AF-133A-4920-8F99-81E4AB2B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244-8D15-4AC4-9EAF-9AA6B626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0DB-9BC6-4E8D-9806-FFA0DD2C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43A-5DDB-44EC-A133-C2CB167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643-82F5-4BC2-ABD6-51188CE2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3A3-6E39-4434-9206-DC166E17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F817-44BB-4C1A-BDFF-85176E435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7:53:55Z</dcterms:created>
  <dc:creator>ERIK</dc:creator>
  <dc:description/>
  <dc:language>en-US</dc:language>
  <cp:lastModifiedBy>ERIK</cp:lastModifiedBy>
  <dcterms:modified xsi:type="dcterms:W3CDTF">2011-05-26T07:58:56Z</dcterms:modified>
  <cp:revision>1</cp:revision>
  <dc:subject/>
  <dc:title>Geen diatitel</dc:title>
</cp:coreProperties>
</file>