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C663-3F71-4EF3-BC66-4502CD53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FC7-16B3-4979-BCF7-DAACF44E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9A72-AAB2-4218-B2DB-36E222EB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54E2-DDD4-492B-9DE3-B73A68A4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3BB-AFA2-4E32-AD97-010CBCE1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DA4-7043-48D2-ABFF-2EC2DEA4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182-40FA-41C6-A099-C4ED9867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59D-E3D4-49F0-AD6E-076B2C28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6F5-0865-44E0-AE77-D18E9695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DFC-FA34-4F1E-BC1B-C725134C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A60-001A-463E-B12B-6DCE9331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DDF-782E-4937-ABB9-98CFCC72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2261-30AC-4FFB-8C41-0F34F28B3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9:47:48Z</dcterms:created>
  <dc:creator>ERIK</dc:creator>
  <dc:description/>
  <dc:language>en-US</dc:language>
  <cp:lastModifiedBy>ERIK</cp:lastModifiedBy>
  <dcterms:modified xsi:type="dcterms:W3CDTF">2011-05-17T19:51:53Z</dcterms:modified>
  <cp:revision>1</cp:revision>
  <dc:subject/>
  <dc:title>Geen diatitel</dc:title>
</cp:coreProperties>
</file>