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5549F-F031-4369-B3BA-2DA27B377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F9275-8A47-478A-AA77-96360FDA0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43AC1-BCC9-445D-BA9F-D0141E7F6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3B4A7-8FE6-4C90-B6D2-665D3AF5C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A1EA6-5D48-4ABB-9750-F54C65EE2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65AE9-3F73-444A-98B6-5D2A6C5E8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95B39-09EA-418D-B3C5-9015B2650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4AF64-53A5-4B75-8415-2334FF709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BAB51-DAD3-4C91-8CF8-44756C8E3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0F9DA-78DF-4FC8-80AB-3C6C4A5D0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3778A-2994-440F-A183-D1DE7A9BF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D5A3B-F4EF-421D-AD87-C866334F5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C2648-E645-4A40-B2FD-0AC96AF03B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858000" cy="990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7T19:47:48Z</dcterms:created>
  <dc:creator>ERIK</dc:creator>
  <dc:description/>
  <dc:language>en-US</dc:language>
  <cp:lastModifiedBy>ERIK</cp:lastModifiedBy>
  <dcterms:modified xsi:type="dcterms:W3CDTF">2011-05-17T19:51:53Z</dcterms:modified>
  <cp:revision>1</cp:revision>
  <dc:subject/>
  <dc:title>Geen diatitel</dc:title>
</cp:coreProperties>
</file>