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28A-10D3-4693-8AC4-CB5130E8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18C-DEFA-4B5E-8CC3-7180B8F7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AD7-D563-4A03-8DDF-3DCA90C9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342-7699-485C-B777-3E6E8378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F61-41DE-416B-A92F-F33691DD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F0E-017F-4CA9-8D7A-4D749F71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FB6-3B27-4D2C-9AF7-C03969B3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631-F4B6-4D62-B1E0-A676A3F4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8E1-058A-435E-A58A-87BCD0BC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286-7476-41B9-875F-D48E0F21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EBE-0937-4A63-B218-71883C0D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5A7-E74F-4FFF-B7FD-251E6800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CD69-29E0-43FE-B7D9-A39D14E67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40:49Z</dcterms:created>
  <dc:creator>ERIK</dc:creator>
  <dc:description/>
  <dc:language>en-US</dc:language>
  <cp:lastModifiedBy>ERIK</cp:lastModifiedBy>
  <dcterms:modified xsi:type="dcterms:W3CDTF">2011-05-17T19:47:41Z</dcterms:modified>
  <cp:revision>1</cp:revision>
  <dc:subject/>
  <dc:title>Geen diatitel</dc:title>
</cp:coreProperties>
</file>