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81B1-1315-4B6F-BB15-49673739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B0E1-5EA2-4F6D-B597-47AC76B4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B011-4748-4116-BD63-A903F12F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7D5F-6EEF-455F-BC53-B7484670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63E8-5102-43FA-B799-5A9486EF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4C26-BE83-4824-AA3B-63DBFD09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C721-B272-47E9-B041-79D34F22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9A2D-52CE-44FC-8F43-7680C3F8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A80B-438F-422D-AB14-681E8613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2892-50EA-4E6E-800B-080E95B5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B83C-72D4-4C95-AA4C-121460DE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4866-408A-4027-BC03-729867CC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E04F-77F7-41A1-8188-8F88F4BFE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9:40:49Z</dcterms:created>
  <dc:creator>ERIK</dc:creator>
  <dc:description/>
  <dc:language>en-US</dc:language>
  <cp:lastModifiedBy>ERIK</cp:lastModifiedBy>
  <dcterms:modified xsi:type="dcterms:W3CDTF">2011-05-17T19:47:41Z</dcterms:modified>
  <cp:revision>1</cp:revision>
  <dc:subject/>
  <dc:title>Geen diatitel</dc:title>
</cp:coreProperties>
</file>