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25A-CC04-4246-ADD7-C3292CA0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589-AFDF-4B40-941F-A789893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D62-3F8A-4D1E-9836-002EED3B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5D0-54DE-4959-AF6B-DB776801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C66-7CDF-43AB-B693-0B92D05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BD0-4832-46E6-AA8C-B187CD1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A0E-E799-4CD1-B1B8-5D7C8589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00D-F1A9-4DB6-B7B5-3B2D027A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ECA-A105-43CB-9206-569D6C9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BF4-8285-420A-95B1-E3BFB2F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171-E386-4CF0-81B2-8650C1D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71D-944B-4E7D-A801-0E3E2CA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6E4D-A6B3-4B9F-ACA3-04F720A0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32:43Z</dcterms:created>
  <dc:creator>ERIK</dc:creator>
  <dc:description/>
  <dc:language>en-US</dc:language>
  <cp:lastModifiedBy>ERIK</cp:lastModifiedBy>
  <dcterms:modified xsi:type="dcterms:W3CDTF">2011-05-17T19:40:43Z</dcterms:modified>
  <cp:revision>1</cp:revision>
  <dc:subject/>
  <dc:title>Geen diatitel</dc:title>
</cp:coreProperties>
</file>