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E8F-B446-431E-BA6B-6A59488A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6A7-CB23-494E-971B-496C44A9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04E-AAB2-4FD1-84A0-BC617131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B77-5043-4DC7-B363-83685C40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F00-685A-479A-91D8-8C4F4810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B42-6877-4135-AD57-69E2C37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CBE-C2FA-4306-9304-0B287713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6CC-8113-454F-B67E-4348DEB4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68B-A780-4629-9AE2-2C5F6624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07F-55E5-4C3C-9775-069FDF9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94E-7F3F-49F7-9184-B7E9A18B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298-8E21-4E29-AC32-C38CCB9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E5F0-E892-4CDF-B98A-BD7D8C2AD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32:43Z</dcterms:created>
  <dc:creator>ERIK</dc:creator>
  <dc:description/>
  <dc:language>en-US</dc:language>
  <cp:lastModifiedBy>ERIK</cp:lastModifiedBy>
  <dcterms:modified xsi:type="dcterms:W3CDTF">2011-05-17T19:40:43Z</dcterms:modified>
  <cp:revision>1</cp:revision>
  <dc:subject/>
  <dc:title>Geen diatitel</dc:title>
</cp:coreProperties>
</file>